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3ED-6478-4E57-9FAC-6CF27DD4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4BBC-0C0E-4428-85FE-A8FBC2CE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599C-06B0-4936-8571-452C0B23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ED97-7D5A-47BF-BB43-EDF509BA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50C-3EA9-45C1-9F0E-C599CE02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3033-6B68-466A-92F4-361C1C83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F9A-ABF3-4C16-8522-8D54598F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AD65-F3F5-4ADE-AE5F-DE19A727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D6B5-0769-4D09-8381-B3B040D5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A0C-D7F5-4CBF-B6E6-82BC48C2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9DD3-0605-4AFB-BDAE-5374649C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68D1-8D9A-45DC-B5A9-4A293EEA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C4C0-9493-4955-88A4-E429524B0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555920"/>
            <a:ext cx="6192720" cy="7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Arial"/>
              </a:rPr>
              <a:t>PRESENTATION 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2204640"/>
            <a:ext cx="5618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560" y="5876640"/>
            <a:ext cx="910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 20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our compan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5:54:39Z</dcterms:created>
  <dc:creator>Mediac</dc:creator>
  <dc:description/>
  <dc:language>en-US</dc:language>
  <cp:lastModifiedBy>Mediac</cp:lastModifiedBy>
  <dcterms:modified xsi:type="dcterms:W3CDTF">2007-06-01T16:20:21Z</dcterms:modified>
  <cp:revision>4</cp:revision>
  <dc:subject/>
  <dc:title>PRESENTATION  NAME</dc:title>
</cp:coreProperties>
</file>