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1C2-F19D-4147-A7B1-AA1CFAEE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F4E-AE35-46B5-8388-B5390DF1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17E02-5100-446A-97F6-26E842B5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4FDBC-5D6B-4396-992C-4FEB5F90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66E7D-4345-446A-9958-B6813529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BC853-89F7-4F86-921E-9F9F2BE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9B4F-CDEF-4E7D-86CA-ACAD122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4776E-30EF-48CD-87AC-D0306C1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8940-90E3-4285-A7CB-30E64684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3DB77-2154-4DD2-89B3-8A531EF2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3A87B-13E8-404D-A0D6-6972FE19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EF35B-BF65-4F16-8494-9F79FC9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F20-858B-4911-A38D-7CCA24E5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9F87F-A002-4D6C-9858-B99B561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460AC-CAEA-4ABF-86B8-7BE26DBB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81F6F-9016-46E9-9C51-CD53B8A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50DE9-893A-4C57-B789-AB2D40A9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787B7-F6CF-43B6-9AC4-6CA2BAB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6D433-81DA-46EC-96D9-F69CA83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0226E-D3A2-4257-BDB4-0B8ED73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DD712-2001-4F8B-A63A-64A00D6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446C8-CBCA-4B99-86C8-8D21AC9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F47A1-FDB5-40DE-9587-975161B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13C-3F0F-41D5-A189-68A426C2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79CE-C2E6-41C3-BC58-67047F25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068C-F8FE-4AA8-A036-FC1D7874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3E94-A12A-45B7-9827-BF1FE4BC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FC2F-8E83-4E4B-B5F2-18FDB66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37B-232E-418E-A348-FDC0CD8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5330-7ADE-4F46-8F97-A39DFFFD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7B86-9798-494E-AC81-1D5A2ED4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4D55-F573-42D8-B4B0-3CB0A72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168-B2FA-4AAE-9267-5BB3C43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D11E-022E-4C15-8985-4902830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AA7-40EF-449E-A20C-EF7B936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691E-028F-4C3C-B3BE-D8B9910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7FB-FB55-4B29-9998-66ADBE02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6227-F99A-4A76-9E52-DA7FDEC5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E0DC-38D0-4E84-A376-9620CE7A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5870-F69F-42D9-8BEE-DEF89FD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D20C-04D6-4967-866E-1B91541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E86F-D005-4B2A-AAD8-25AA10E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F06C-4573-421E-9686-16C1A9F0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2C6-41CD-40EB-B3BC-4B00424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BE98-23CB-450F-BC9D-0AD0FDE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685B-C2BD-496F-BA78-2CEB0CF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4C2B-3DA2-483B-B257-F0BAF8C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42A4-EF6C-4231-A0D2-C67894E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4B87-F5B3-4539-B96E-641548B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4A1D-B1F4-453E-91E8-E81718F3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9326-BF52-419A-BC2E-238DD3EC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DCEC-61EA-47E6-81AE-70BB3F5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CC96-5B13-4F22-A7F2-4678861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295D-38DE-450B-8314-05D1DE6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130-5501-46C4-A5CA-36594343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8247-1044-426D-A183-4CEC5F0B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3FC2-9EC4-4B1E-AC59-A950C80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59A4-9375-42AE-81B0-CB5C77E5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FC70-B2C5-4CA4-8083-D39BF82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DC59-9F65-4B6C-AC68-7B785B8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71DB-E03E-4976-8B5D-E32BFEB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8781-9791-42D7-AF5B-5882B3D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1F61-0ED8-4B9E-9C5F-ED4DF90E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AF3D-3D96-4E1F-86D9-2C400683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7EBC-EF48-41C3-B2CC-48D9319B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BE2-917D-4A0A-A74A-836BD9A4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BBC3-D7F6-455F-B02B-13A8DBE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6983-7DA2-472A-8213-3E7864EA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0D2A-A632-4566-8FF2-7B2E781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F662-4080-40F1-8340-E6B1458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316F4-B710-4120-B513-404DC305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3B8A-583C-4A64-B101-F80B00E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B05B4-9FFA-4BEC-88FB-BD9450F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D5E4F-240F-4CD6-8AC5-1DE0651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32D2-60FC-4121-8A79-2F8E857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6C4EE-79AF-48E9-95C6-1B5775A5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8A7-9734-4C8D-A028-F61EA619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6756-8365-4A79-A8F4-226F25B8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46F7A-CDB3-433C-8F0A-24D02E16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1236-1DDA-41CA-968D-BC5422C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41DA-A4E0-4223-B28E-2CEE080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336B-A201-4B89-9405-A06E40B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682C9-43CD-44B8-8937-78A69005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A4F77-CEF5-4E91-A2AF-25B368F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FF67-1D30-417A-8BA8-7689B10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0B6C-B6AD-47D1-A0C7-78860F03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4BE4-7A23-457A-910E-60A43D2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8CE-850F-45E7-8E40-A0723E8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7399-107F-493A-BBBE-85EA8E6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04266-09AA-4CC9-8701-215EBF68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0FBE-A5E2-4C45-9760-FC59F8D3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3A1B5-68BF-4F64-B271-6F478633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286E5-334C-4993-BE0E-E1FCA7C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635A-D87D-4B8C-BB44-1D2E363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2082-C9A1-4D02-BFBB-4E53F377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A09A-4382-45FA-B4EA-8C97B6E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351A-B241-4AD9-8FDE-F69C319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89E5-4161-4DBA-B76B-2796A39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FE0-1FFB-4E40-A26D-B1CFC58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67BA-B157-4EDD-AEB7-31FE1FF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83EC-596F-4604-978C-CDEE884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4164E-AF44-4CA6-B299-398B04A2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9DCF-68ED-4DCC-A2F5-B979AA1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9B8E-595D-4A96-ADB5-ABD92B68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F20A0-CEAC-40BD-AAE5-90E8C1DF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BCC9-EC32-41E3-A77A-95786561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62D27-26FD-431E-8E0E-B22A3663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C5F7-6964-4602-9E9B-67409A52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1AC19-2E76-49FC-8E3D-D277E9CD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C8B-E2B2-4C8F-A18C-FC14D51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85AF5-3D6A-4C5D-B9DF-6F11BEB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CBFB-A104-44F0-8FEB-4A73F43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E83D8-5E85-4BDC-B666-467C7463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B12C-0246-4266-8063-2A1B859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9F3C-0274-45E7-8DB2-2049A08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24C8F-642A-468E-B1E1-5AB41BE5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6075-917C-49B6-847D-013EBAC1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43BA-54CE-401F-B337-BC1ADC6E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3105D-6F4D-46C3-87C2-5F776B8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7ECA7-F178-48BE-8CC9-31DE3110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F6AB-C117-4007-BC75-78E4BA31D0E8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6913-51E7-4677-BE56-59801B551394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17" name="Forme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rme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Triangle rectangle 10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423" name="Chevron 1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hevron 1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8C6-10EE-46FE-BBD9-BE0EC1874D51}" type="datetime2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FA88-BA25-49B0-A4D4-16A00539FF1C}" type="slidenum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9" name="Triangle rect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c4800"/>
              </a:gs>
              <a:gs pos="50000">
                <a:srgbClr val="ff8b41"/>
              </a:gs>
              <a:gs pos="100000">
                <a:srgbClr val="cc4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7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10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ffb99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11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12"/>
            <p:cNvGrpSpPr/>
            <p:nvPr/>
          </p:nvGrpSpPr>
          <p:grpSpPr>
            <a:xfrm>
              <a:off x="8640" y="4998240"/>
              <a:ext cx="9129240" cy="1866240"/>
              <a:chOff x="8640" y="4998240"/>
              <a:chExt cx="9129240" cy="186624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240"/>
                <a:ext cx="912924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86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712C-7400-4B2E-9EA7-52829FE09169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5850-C277-48DB-AA88-0855A295A4AC}" type="slidenum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11BB-5FA3-462E-B87F-97D6671F918B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6B0-E6F1-4910-B4C5-73922C176747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151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888-94AB-4CC4-A238-13FE237FD47D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8B6D-B1B0-4819-9693-CC9CD9698833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77C9-1338-4DE0-A49C-24464CA4EB0B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431-212E-49E8-9308-21A33CB815BF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D7CB-B1D9-4EDD-862A-3A15B4E55D48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0BB8-B36F-43E0-98D2-4EA11F7D1AC5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DFB6-2243-4CAA-9146-EB1A35AA7D3C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6DC-EC5F-4F9F-996D-CA8B0FD47AA7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4DFE-97E0-4341-A424-8C382926F0AE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348-0EE4-4646-8604-80D04A4E8986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AE1-1AA5-48E0-85B1-718461553785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650-E880-4C52-90A0-F38E04E4E42D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ZoneTexte 3"/>
          <p:cNvSpPr/>
          <p:nvPr/>
        </p:nvSpPr>
        <p:spPr>
          <a:xfrm>
            <a:off x="500040" y="54975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Presentation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2"/>
          <p:cNvSpPr/>
          <p:nvPr/>
        </p:nvSpPr>
        <p:spPr>
          <a:xfrm>
            <a:off x="500040" y="61437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fr-CA" sz="4800" spc="-1" strike="noStrike">
                <a:solidFill>
                  <a:srgbClr val="575f6d"/>
                </a:solidFill>
                <a:latin typeface="Eras Medium ITC"/>
              </a:rPr>
              <a:t>Title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fr-CA" sz="3100" spc="-1" strike="noStrike">
                <a:solidFill>
                  <a:srgbClr val="000000"/>
                </a:solidFill>
                <a:latin typeface="Eras Medium ITC"/>
              </a:rPr>
              <a:t>Conten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4:25:02Z</dcterms:created>
  <dc:creator>Ric</dc:creator>
  <dc:description/>
  <dc:language>en-US</dc:language>
  <cp:lastModifiedBy>Mediac</cp:lastModifiedBy>
  <dcterms:modified xsi:type="dcterms:W3CDTF">2007-05-17T21:31:27Z</dcterms:modified>
  <cp:revision>86</cp:revision>
  <dc:subject/>
  <dc:title>Diapositive 1</dc:title>
</cp:coreProperties>
</file>