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4C7-638F-446D-86DE-464DE94F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792-6CEF-47FB-B068-621B475D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772-143E-4FE6-B913-F99B2E0C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8F4-C938-408C-AA54-691FFBFC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2DF7-12AE-4E2B-8E14-57036F30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B6CD-79D0-408D-A1A4-FB10B06A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E315-42DE-40FC-AE00-E9C2A06F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5F91-AED2-4E67-A5FA-5B89D541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D55D-CCBF-4D04-8777-1E33D5E2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0ACC-57CA-4678-898D-5EC25955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E1E7-0FA3-4FA7-A6A4-C7C5B0D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73B-4E76-48E8-966D-2D2A527A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2D07-45D5-4E3E-AD7C-B8853725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92AB-3F46-49AB-A60B-04F2485D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2DFE-EFCE-41A6-B0D5-AD7FE40E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6F82-BC10-4328-912D-C66FAF1E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956A-E6CC-413C-83B3-02604227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676-3CCC-4415-B689-62A4D06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07C-259C-4E0A-B984-D45B68FD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D87-141E-4C39-A7F8-454655AF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776-AF6C-40F1-A960-FF8DFB80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1A4-087F-4614-B559-9F84DA4E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8F4-235A-419D-A9DB-3996FFB7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93E-A03A-4F70-AF78-901830FD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0CFA-83B2-4CDA-ACD9-E684B914C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C0E0-C8ED-4508-AB14-F6E5A138D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Example Compan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5457960"/>
            <a:ext cx="64008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Bullet Point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of a char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92360" y="1557360"/>
          <a:ext cx="728352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557360"/>
                    <a:ext cx="72835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icture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21160" y="1697040"/>
            <a:ext cx="2374920" cy="4002120"/>
          </a:xfrm>
          <a:prstGeom prst="rect">
            <a:avLst/>
          </a:prstGeom>
          <a:ln w="38160">
            <a:solidFill>
              <a:srgbClr val="1795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02:15Z</dcterms:created>
  <dc:creator>Paul</dc:creator>
  <dc:description/>
  <dc:language>en-US</dc:language>
  <cp:lastModifiedBy>Jonty Pearce</cp:lastModifiedBy>
  <dcterms:modified xsi:type="dcterms:W3CDTF">2005-03-11T15:20:36Z</dcterms:modified>
  <cp:revision>4</cp:revision>
  <dc:subject/>
  <dc:title>Diapozitivul 1</dc:title>
</cp:coreProperties>
</file>