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5C0EA-0F2D-4358-BE43-061690508D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00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4012200"/>
            <a:ext cx="800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BA301-5312-4CFB-86EE-DB404AED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440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401220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4400" y="401220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144D3-9CA4-40AA-B229-B02AA0BE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9760" y="170028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5520" y="170028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401220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9760" y="401220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5520" y="401220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21B3B-6E74-4219-AF0E-836375F14B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700C4-F312-4AA2-A9B4-E998289234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4000" y="1700280"/>
            <a:ext cx="800244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D7136-72C6-47D2-A86F-F0988070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0024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B3DE7-901F-4C1D-A728-DB2D140E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39049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4400" y="1700280"/>
            <a:ext cx="39049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6161F-AEEC-462A-9E11-B908B0D6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52A233-557C-40B1-8E25-C26A91ED6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CBCD0-A67B-4055-A8A9-00303BDEF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4400" y="1700280"/>
            <a:ext cx="39049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4000" y="401220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9A1473-1EFA-463A-B070-BCC4A38B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1700280"/>
            <a:ext cx="800244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F2087-3BDC-4549-AF6A-05F346EB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39049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440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4400" y="401220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EA1CF-7125-4A8B-928A-FA36C8BF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440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4000" y="4012200"/>
            <a:ext cx="800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95A647-A7CC-4BEB-B577-28060499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00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4000" y="4012200"/>
            <a:ext cx="800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5ED54E-B5D3-4042-B2C9-3101DC1A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440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4000" y="401220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4400" y="401220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32119-1D26-4E9A-85ED-C85A6071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89760" y="170028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5520" y="170028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4000" y="401220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89760" y="401220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5520" y="401220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42E68-5012-46FB-9D3A-54B71892D5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0024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5AB9E-47DF-4E0E-B274-EB397C71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39049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4400" y="1700280"/>
            <a:ext cx="39049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1BF43-68EA-4029-8B3D-7F3F1BB7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1EC0E-C497-4FD6-BC02-73D6D152B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CBA10-7483-46A1-BB03-FDDD04A1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4400" y="1700280"/>
            <a:ext cx="39049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401220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78CDE-F5AD-4CBF-B4FC-8ACF0407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39049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440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4400" y="401220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F3BB3-CA17-4D66-878A-147ADA5A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440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4012200"/>
            <a:ext cx="800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C55B0-7C66-429E-A99F-40FD743E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f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1700280"/>
            <a:ext cx="80024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901"/>
              </a:spcBef>
              <a:buClr>
                <a:srgbClr val="ff7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901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-217080">
              <a:spcBef>
                <a:spcPts val="901"/>
              </a:spcBef>
              <a:buClr>
                <a:srgbClr val="ff7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-217080">
              <a:spcBef>
                <a:spcPts val="901"/>
              </a:spcBef>
              <a:buClr>
                <a:srgbClr val="ff7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1954440" indent="-21708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1954440" indent="-21708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92400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35C6-A27D-41EA-B2F2-29A54642D2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732720" y="625968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e5e56"/>
                </a:solidFill>
                <a:latin typeface="Arial"/>
              </a:rPr>
              <a:t>your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7f00"/>
                </a:solidFill>
                <a:latin typeface="Arial"/>
              </a:rPr>
              <a:t>Click to edit the title text format</a:t>
            </a:r>
            <a:endParaRPr b="1" lang="en-US" sz="8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456840" y="62053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3995280" y="62053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025B-D82D-4393-A003-BAE38DA0A3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32720" y="625968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e5e56"/>
                </a:solidFill>
                <a:latin typeface="Arial"/>
              </a:rPr>
              <a:t>your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  <a:p>
            <a:pPr lvl="1" marL="4021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04600" algn="ctr">
              <a:spcBef>
                <a:spcPts val="700"/>
              </a:spcBef>
              <a:buClr>
                <a:srgbClr val="ff7f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206720" algn="ctr">
              <a:spcBef>
                <a:spcPts val="601"/>
              </a:spcBef>
              <a:buClr>
                <a:srgbClr val="ff7f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609200" algn="ctr">
              <a:spcBef>
                <a:spcPts val="601"/>
              </a:spcBef>
              <a:buClr>
                <a:srgbClr val="ff7f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6092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6092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ff7f00"/>
                </a:solidFill>
                <a:latin typeface="Arial"/>
              </a:rPr>
              <a:t>BOLD ORANGE</a:t>
            </a:r>
            <a:endParaRPr b="1" lang="en-US" sz="8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AND WHITE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7f00"/>
                </a:solidFill>
                <a:latin typeface="Arial"/>
              </a:rPr>
              <a:t>Example Bullet Point slide</a:t>
            </a: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0024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se templates are for personal use only and must not be distributed, sold or displayed on the web by anyone other than Presentation Helper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Bullet poi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7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b bullet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7f00"/>
                </a:solidFill>
                <a:latin typeface="Arial"/>
              </a:rPr>
              <a:t>Example of a chart</a:t>
            </a: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692360" y="2133720"/>
          <a:ext cx="6192720" cy="38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133720"/>
                    <a:ext cx="6192720" cy="38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7f00"/>
                </a:solidFill>
                <a:latin typeface="Arial"/>
              </a:rPr>
              <a:t>Picture slide</a:t>
            </a: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39211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llet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llet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372360" y="2060640"/>
            <a:ext cx="2093760" cy="3529080"/>
          </a:xfrm>
          <a:prstGeom prst="rect">
            <a:avLst/>
          </a:prstGeom>
          <a:ln w="38160">
            <a:solidFill>
              <a:srgbClr val="ff7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7f00"/>
                </a:solidFill>
                <a:latin typeface="Arial"/>
              </a:rPr>
              <a:t>Examples of default styles</a:t>
            </a: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39272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ext and lines are like th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e9a021"/>
                </a:solidFill>
                <a:uFillTx/>
                <a:latin typeface="Arial"/>
              </a:rPr>
              <a:t>Hyperlinks like th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e2790f"/>
                </a:solidFill>
                <a:uFillTx/>
                <a:latin typeface="Arial"/>
              </a:rPr>
              <a:t>Visited hyperlinks like th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651640" y="2637000"/>
          <a:ext cx="3294000" cy="1655640"/>
        </p:xfrm>
        <a:graphic>
          <a:graphicData uri="http://schemas.openxmlformats.org/drawingml/2006/table">
            <a:tbl>
              <a:tblPr/>
              <a:tblGrid>
                <a:gridCol w="1647000"/>
                <a:gridCol w="1647000"/>
              </a:tblGrid>
              <a:tr h="82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bl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755640" y="4653000"/>
            <a:ext cx="2232000" cy="1368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1640" y="4653000"/>
            <a:ext cx="2232000" cy="1368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aea38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ith shad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88000" y="2852640"/>
            <a:ext cx="574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6T15:14:34Z</dcterms:created>
  <dc:creator>Jonty Pearce</dc:creator>
  <dc:description/>
  <dc:language>en-US</dc:language>
  <cp:lastModifiedBy>Jonty Pearce</cp:lastModifiedBy>
  <dcterms:modified xsi:type="dcterms:W3CDTF">2005-03-26T17:04:03Z</dcterms:modified>
  <cp:revision>5</cp:revision>
  <dc:subject/>
  <dc:title>Slide 1</dc:title>
</cp:coreProperties>
</file>