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7.jpeg" ContentType="image/jpe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7389C-D80E-43C6-95B7-4E9728FA0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702C7-DF92-48E4-87C2-3B5E02591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92A1E5-2BC0-459C-A86F-21D023E54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5077C6-4B2A-468E-8DB3-27FE2469D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CC98AF-6139-40D0-9A6E-9AD4FB1EA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7B84DE-E57C-4626-97C1-5B0FD8EDA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91A758-B56F-489A-BAFB-B4A6341AB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1E549A-6B90-45D5-9A73-645164D68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04574C-BD8F-4873-B046-8220D1B71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2AA486-52C2-4E53-A003-E18E2FA59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E0890A-FF23-494A-B85D-7D2F2AA67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AD5264-A829-4860-8CC6-25A798682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E1227-584C-4378-BDA9-D58426ABC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9A1E57-BDBB-4D84-B4AF-CB4493EE8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4267AE-2BA0-4F7D-ADF8-0B13FDA05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A026B9-D135-41F0-9D91-33BDCA8DB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9D0D4A-13D3-4705-9670-A907039E4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30013A-53C1-475A-AE47-2AD567E01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466E34-3A56-4CAB-810E-598C6446B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9F39DE-2BC6-4F29-A3C3-101A319A9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D0A65C-E13D-40B2-9273-0C64A77AD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9F77B5-AD91-40F4-872A-99B3550AA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5E6AD4-A58D-4869-A233-594C563EC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50365-D6EA-427E-ADFC-423F150F3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B5DDC2-7C5A-42CB-8FC3-FD7AC02E9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FBB98-1605-4067-9710-6487A19D2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8AB58-F38B-4731-BFF3-DBBE440AE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B1D01-3704-487C-9842-A5C124B2C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E9C33-FE19-44CC-BEF9-3E6566950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18DC8-6AAA-4863-8264-24DFE24A8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580C8-3B76-4937-8748-C6710D71D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84E77-166F-47DC-8201-587B8EE78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DAB10-F402-47AA-A4C9-05F50CDF8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F4B5C-56D2-4814-98A4-FF6969DE9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2364E-3E01-4E80-97BF-4F13D1B19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BFAAD-1562-4F31-B2BE-FF7F25922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48564-2FEB-497F-B0B6-A285376C5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6EFE0-B516-4667-BFFA-ED2762A4E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BF3DA5-4E48-4425-96E5-1FE65D87E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07AA9C-DC25-46E8-8CBA-1792E0228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DE1DBB-B8DB-420C-BCD6-9B0F17313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8A485F-677A-4C0E-A15B-219D5EE3E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971161-79F9-49B0-9F7B-F940A84B5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CCD63-9582-4EAC-A66F-EB5FBD1FD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3DF285-3597-49EE-963D-537D417D1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DCE18C-D1F2-4D5A-BD59-2CEBEB330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741727-31A1-4489-9DDE-AB52C9C9E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D3F842-C4C1-4D34-8EBB-45CBF3696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0DBB91-9812-4515-9951-CD76892A9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ED0AB4-83E4-4256-83DB-659D0EE93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BBEC63-CFC1-48E2-A2CD-2D3D4E8F9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4D1292-281F-43F7-AA10-6D473D912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709523-B1F0-4E16-81AB-3ABE44EC4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BF310D-CEB9-4AB4-8E81-25F79B179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D1997-4551-4251-9F93-B5CA21A02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845BDC-21D1-449A-8F9D-2801FA944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D739F0-454B-476C-AB24-9C257B5C4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16AC11-8E43-4FFC-9B05-EDE935DBE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89D27F-FC31-4271-B776-ADA3E02E2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DA59F1-F911-4FF7-BFC0-CD37F51FC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CFFEA2-63F1-4336-885B-6B013740A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821D25-1724-4FEA-B4C4-1E3EF6FF2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9A3D82-890A-4886-B159-B62C9D387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8575EA-C888-49CA-A474-B6176DE84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89A3BB-592B-4E8D-9D4F-2FC33561E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029CB-23D5-4886-A889-384BE501B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BABC07-9067-4AF0-9EA1-CA0D0A25F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E2D71F-7B53-4A75-A589-FB88C3B9B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2AEAC4-74F9-43EC-87E5-DA28E07C1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9BE54E-1796-488D-87D0-281ABE620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7EC196-373B-4547-BEF8-DC602323E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03C0C5-00F9-4BF7-A737-9A43E8671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85C4BC-0142-46B1-BDAD-24EDA6170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9D3DF3-D202-4D5F-9CF0-7DA177932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208025-09FC-447D-9421-2B2C8F926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1D5888-39C3-4E06-95CB-2D653DF05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089BB-3DBD-4A70-ABAF-C7A4CC1B2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CEF40F-0157-4B72-819D-8ED7BE60C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D22A96-6747-465A-BAA2-070DC7F5E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8F741C-F021-4009-9774-D78A04624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ADBA8D-7F5C-469A-9B5C-3B59EF568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C90480-1976-43DB-99BC-98FD4AB0D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8B4FAA-9958-45AD-89DA-64AE2D8AC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E90FC2-3392-4C9A-8DF9-879C98E1A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0DB28A-2A3C-4FBB-B541-0BFF3C6A1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D1D09E-53A1-4350-853B-EDD3C95C3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B13334-44D4-4A65-95B2-2CAB7F600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65B85-18B3-4523-9002-D06A2D650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158AD4-E48B-4662-B4B7-ACDD3A431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8E0692-1913-469A-B78D-5C0891D9F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68C51D-AC00-41E9-9B00-E0AFD1C2B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64A150-423D-4739-BEBB-6D5B57EF1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34CA51-DD25-4170-875E-608C7C4E7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4D4B33-6969-45E0-871B-7BD005B89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7CCBAD-9480-43B9-A53C-8D2D6ABB3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34413C-CDBD-411B-B571-96EE89D45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9EF5BF-84FC-41AC-B690-7D84F332E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0D23E3-AA70-4018-B1F6-09EC084AD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A25D3-8AC0-417C-B567-D64FBC62B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085E92-F6C1-4003-A575-08A0C67F1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FC16DB-11C3-44A6-99A2-E1072A625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233CF3-0A2A-4BA5-844C-43D1BE96C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92DFA3-6995-4928-9D5A-6DE72C2E2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69FB45-3523-4E10-A2D1-52BDC558C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F5FDAF-5551-4D0E-B649-F39037A0E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CC2138-FDA9-4112-A843-1A3F1F2FE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5D8CEC-A71B-4AA8-A292-57F6A6A01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DC8D3E-C029-4FF5-82BA-F0D70F3FA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837B63-478B-4F97-87B5-D54D1648B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C5EAC-D40A-4F76-B3B6-F21996165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BD4204-B1FC-479F-BFF2-71A53B706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93F097-CEDC-4616-BDEA-3B035F63B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235251-6317-43CA-AD66-7DAAF2D91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FA7D32-0965-48C7-B86A-730C5FE3E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AE03E7-6467-4B4D-BCD7-CEA0BB94B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9FF2AA-63F7-4366-B3BA-26B9CA55C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66C2EA-B3C5-451B-B8AF-90CFDB937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657940-F022-473F-87A7-AAB48442C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2DC59A-869B-4073-AAA6-C99D67977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F607DB-56EE-4FC2-AF93-AB8D0EDC1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orme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orme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1143000" indent="-22860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600200" indent="-22860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2057400" indent="-22860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4A3B0-2314-413C-8D1A-6649DBA041A6}" type="datetime2">
              <a:rPr b="0" lang="en-US" sz="1200" spc="-1" strike="noStrike">
                <a:solidFill>
                  <a:srgbClr val="045c75"/>
                </a:solidFill>
                <a:latin typeface="Constantia"/>
              </a:rPr>
              <a:t>Thursday, July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59056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BD27B-E23C-4689-B43A-E39B0B6DCB2C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9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orme 11"/>
            <p:cNvGrpSpPr/>
            <p:nvPr/>
          </p:nvGrpSpPr>
          <p:grpSpPr>
            <a:xfrm>
              <a:off x="-19080" y="203040"/>
              <a:ext cx="9163080" cy="648000"/>
              <a:chOff x="-19080" y="203040"/>
              <a:chExt cx="9163080" cy="648000"/>
            </a:xfrm>
          </p:grpSpPr>
          <p:pic>
            <p:nvPicPr>
              <p:cNvPr id="9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-1800" y="203040"/>
                <a:ext cx="914580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orme 12"/>
            <p:cNvGrpSpPr/>
            <p:nvPr/>
          </p:nvGrpSpPr>
          <p:grpSpPr>
            <a:xfrm>
              <a:off x="-12960" y="248040"/>
              <a:ext cx="9174960" cy="561600"/>
              <a:chOff x="-12960" y="248040"/>
              <a:chExt cx="9174960" cy="561600"/>
            </a:xfrm>
          </p:grpSpPr>
          <p:pic>
            <p:nvPicPr>
              <p:cNvPr id="1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2520" y="248040"/>
                <a:ext cx="915948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260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Forme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Forme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1143000" indent="-22860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600200" indent="-22860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2057400" indent="-22860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454" name="Group 9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455" name="Forme 11"/>
            <p:cNvGrpSpPr/>
            <p:nvPr/>
          </p:nvGrpSpPr>
          <p:grpSpPr>
            <a:xfrm>
              <a:off x="-19080" y="203040"/>
              <a:ext cx="9163080" cy="648000"/>
              <a:chOff x="-19080" y="203040"/>
              <a:chExt cx="9163080" cy="648000"/>
            </a:xfrm>
          </p:grpSpPr>
          <p:pic>
            <p:nvPicPr>
              <p:cNvPr id="45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-1800" y="203040"/>
                <a:ext cx="914580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7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8" name="Forme 12"/>
            <p:cNvGrpSpPr/>
            <p:nvPr/>
          </p:nvGrpSpPr>
          <p:grpSpPr>
            <a:xfrm>
              <a:off x="-12960" y="248040"/>
              <a:ext cx="9174960" cy="561600"/>
              <a:chOff x="-12960" y="248040"/>
              <a:chExt cx="9174960" cy="561600"/>
            </a:xfrm>
          </p:grpSpPr>
          <p:pic>
            <p:nvPicPr>
              <p:cNvPr id="4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2520" y="248040"/>
                <a:ext cx="915948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0" name=""/>
              <p:cNvSpPr/>
              <p:nvPr/>
            </p:nvSpPr>
            <p:spPr>
              <a:xfrm rot="21435600">
                <a:off x="-1260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6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957BF-8406-4FB6-A9AF-13033B75E5AA}" type="datetime2">
              <a:rPr b="0" lang="en-US" sz="1200" spc="-1" strike="noStrike">
                <a:solidFill>
                  <a:srgbClr val="045c75"/>
                </a:solidFill>
                <a:latin typeface="Constantia"/>
              </a:rPr>
              <a:t>Thursday, July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ftr" idx="29"/>
          </p:nvPr>
        </p:nvSpPr>
        <p:spPr>
          <a:xfrm>
            <a:off x="259056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sldNum" idx="30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108BF-914D-43F4-81D9-D291A0226D51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orme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orme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743040" indent="-28584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143000" indent="-22860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600200" indent="-22860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2057400" indent="-22860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2057400" indent="-22860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2057400" indent="-22860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grpSp>
        <p:nvGrpSpPr>
          <p:cNvPr id="54" name="Group 9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5" name="Forme 11"/>
            <p:cNvGrpSpPr/>
            <p:nvPr/>
          </p:nvGrpSpPr>
          <p:grpSpPr>
            <a:xfrm>
              <a:off x="-19080" y="203040"/>
              <a:ext cx="9163080" cy="648000"/>
              <a:chOff x="-19080" y="203040"/>
              <a:chExt cx="9163080" cy="648000"/>
            </a:xfrm>
          </p:grpSpPr>
          <p:pic>
            <p:nvPicPr>
              <p:cNvPr id="5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-1800" y="203040"/>
                <a:ext cx="914580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7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Forme 12"/>
            <p:cNvGrpSpPr/>
            <p:nvPr/>
          </p:nvGrpSpPr>
          <p:grpSpPr>
            <a:xfrm>
              <a:off x="-12960" y="248040"/>
              <a:ext cx="9174960" cy="561600"/>
              <a:chOff x="-12960" y="248040"/>
              <a:chExt cx="9174960" cy="561600"/>
            </a:xfrm>
          </p:grpSpPr>
          <p:pic>
            <p:nvPicPr>
              <p:cNvPr id="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2520" y="248040"/>
                <a:ext cx="915948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0" name=""/>
              <p:cNvSpPr/>
              <p:nvPr/>
            </p:nvSpPr>
            <p:spPr>
              <a:xfrm rot="21435600">
                <a:off x="-1260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11D3C-4C23-43A3-BC56-B27E5304B32E}" type="datetime2">
              <a:rPr b="0" lang="en-US" sz="1200" spc="-1" strike="noStrike">
                <a:solidFill>
                  <a:srgbClr val="d1eaee"/>
                </a:solidFill>
                <a:latin typeface="Constantia"/>
              </a:rPr>
              <a:t>Thursday, July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59056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D28F1-C12A-4FD0-9492-FB4DB90A5F7A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orme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orme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1143000" indent="-22860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600200" indent="-22860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2057400" indent="-22860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4" name="Group 9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5" name="Forme 11"/>
            <p:cNvGrpSpPr/>
            <p:nvPr/>
          </p:nvGrpSpPr>
          <p:grpSpPr>
            <a:xfrm>
              <a:off x="-19080" y="203040"/>
              <a:ext cx="9163080" cy="648000"/>
              <a:chOff x="-19080" y="203040"/>
              <a:chExt cx="9163080" cy="648000"/>
            </a:xfrm>
          </p:grpSpPr>
          <p:pic>
            <p:nvPicPr>
              <p:cNvPr id="10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-1800" y="203040"/>
                <a:ext cx="914580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Forme 12"/>
            <p:cNvGrpSpPr/>
            <p:nvPr/>
          </p:nvGrpSpPr>
          <p:grpSpPr>
            <a:xfrm>
              <a:off x="-12960" y="248040"/>
              <a:ext cx="9174960" cy="561600"/>
              <a:chOff x="-12960" y="248040"/>
              <a:chExt cx="9174960" cy="561600"/>
            </a:xfrm>
          </p:grpSpPr>
          <p:pic>
            <p:nvPicPr>
              <p:cNvPr id="10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2520" y="248040"/>
                <a:ext cx="915948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" name=""/>
              <p:cNvSpPr/>
              <p:nvPr/>
            </p:nvSpPr>
            <p:spPr>
              <a:xfrm rot="21435600">
                <a:off x="-1260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8CBEE-273F-4523-97D8-036D6D009599}" type="datetime2">
              <a:rPr b="0" lang="en-US" sz="1200" spc="-1" strike="noStrike">
                <a:solidFill>
                  <a:srgbClr val="045c75"/>
                </a:solidFill>
                <a:latin typeface="Constantia"/>
              </a:rPr>
              <a:t>Thursday, July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59056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DEE48-C994-4BF1-AB06-6C93E1851DF8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Forme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Forme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743040" indent="-28584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143000" indent="-22860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600200" indent="-22860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2057400" indent="-22860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2057400" indent="-22860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2057400" indent="-22860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grpSp>
        <p:nvGrpSpPr>
          <p:cNvPr id="154" name="Group 9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55" name="Forme 11"/>
            <p:cNvGrpSpPr/>
            <p:nvPr/>
          </p:nvGrpSpPr>
          <p:grpSpPr>
            <a:xfrm>
              <a:off x="-19080" y="203040"/>
              <a:ext cx="9163080" cy="648000"/>
              <a:chOff x="-19080" y="203040"/>
              <a:chExt cx="9163080" cy="648000"/>
            </a:xfrm>
          </p:grpSpPr>
          <p:pic>
            <p:nvPicPr>
              <p:cNvPr id="15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-1800" y="203040"/>
                <a:ext cx="914580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7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8" name="Forme 12"/>
            <p:cNvGrpSpPr/>
            <p:nvPr/>
          </p:nvGrpSpPr>
          <p:grpSpPr>
            <a:xfrm>
              <a:off x="-12960" y="248040"/>
              <a:ext cx="9174960" cy="561600"/>
              <a:chOff x="-12960" y="248040"/>
              <a:chExt cx="9174960" cy="561600"/>
            </a:xfrm>
          </p:grpSpPr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2520" y="248040"/>
                <a:ext cx="915948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0" name=""/>
              <p:cNvSpPr/>
              <p:nvPr/>
            </p:nvSpPr>
            <p:spPr>
              <a:xfrm rot="21435600">
                <a:off x="-1260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61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30223-D688-479E-B488-83B8505FFB68}" type="datetime2">
              <a:rPr b="0" lang="en-US" sz="1200" spc="-1" strike="noStrike">
                <a:solidFill>
                  <a:srgbClr val="d1eaee"/>
                </a:solidFill>
                <a:latin typeface="Constantia"/>
              </a:rPr>
              <a:t>Thursday, July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 type="ftr" idx="11"/>
          </p:nvPr>
        </p:nvSpPr>
        <p:spPr>
          <a:xfrm>
            <a:off x="259056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4526A-383E-4290-806A-DED337664121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Forme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Forme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1143000" indent="-22860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600200" indent="-22860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2057400" indent="-22860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204" name="Group 9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05" name="Forme 11"/>
            <p:cNvGrpSpPr/>
            <p:nvPr/>
          </p:nvGrpSpPr>
          <p:grpSpPr>
            <a:xfrm>
              <a:off x="-19080" y="203040"/>
              <a:ext cx="9163080" cy="648000"/>
              <a:chOff x="-19080" y="203040"/>
              <a:chExt cx="9163080" cy="648000"/>
            </a:xfrm>
          </p:grpSpPr>
          <p:pic>
            <p:nvPicPr>
              <p:cNvPr id="20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-1800" y="203040"/>
                <a:ext cx="914580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7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8" name="Forme 12"/>
            <p:cNvGrpSpPr/>
            <p:nvPr/>
          </p:nvGrpSpPr>
          <p:grpSpPr>
            <a:xfrm>
              <a:off x="-12960" y="248040"/>
              <a:ext cx="9174960" cy="561600"/>
              <a:chOff x="-12960" y="248040"/>
              <a:chExt cx="9174960" cy="561600"/>
            </a:xfrm>
          </p:grpSpPr>
          <p:pic>
            <p:nvPicPr>
              <p:cNvPr id="20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2520" y="248040"/>
                <a:ext cx="915948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0" name=""/>
              <p:cNvSpPr/>
              <p:nvPr/>
            </p:nvSpPr>
            <p:spPr>
              <a:xfrm rot="21435600">
                <a:off x="-1260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1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19DF9-8EA2-4FD7-8D0F-F27581E759DB}" type="datetime2">
              <a:rPr b="0" lang="en-US" sz="1200" spc="-1" strike="noStrike">
                <a:solidFill>
                  <a:srgbClr val="045c75"/>
                </a:solidFill>
                <a:latin typeface="Constantia"/>
              </a:rPr>
              <a:t>Thursday, July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ftr" idx="14"/>
          </p:nvPr>
        </p:nvSpPr>
        <p:spPr>
          <a:xfrm>
            <a:off x="259056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sldNum" idx="15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0E001-DB73-4C0E-9B0D-EBB2F73BDF54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Forme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Forme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1143000" indent="-22860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600200" indent="-22860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2057400" indent="-22860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254" name="Group 9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55" name="Forme 11"/>
            <p:cNvGrpSpPr/>
            <p:nvPr/>
          </p:nvGrpSpPr>
          <p:grpSpPr>
            <a:xfrm>
              <a:off x="-19080" y="203040"/>
              <a:ext cx="9163080" cy="648000"/>
              <a:chOff x="-19080" y="203040"/>
              <a:chExt cx="9163080" cy="648000"/>
            </a:xfrm>
          </p:grpSpPr>
          <p:pic>
            <p:nvPicPr>
              <p:cNvPr id="25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-1800" y="203040"/>
                <a:ext cx="914580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7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8" name="Forme 12"/>
            <p:cNvGrpSpPr/>
            <p:nvPr/>
          </p:nvGrpSpPr>
          <p:grpSpPr>
            <a:xfrm>
              <a:off x="-12960" y="248040"/>
              <a:ext cx="9174960" cy="561600"/>
              <a:chOff x="-12960" y="248040"/>
              <a:chExt cx="9174960" cy="561600"/>
            </a:xfrm>
          </p:grpSpPr>
          <p:pic>
            <p:nvPicPr>
              <p:cNvPr id="2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2520" y="248040"/>
                <a:ext cx="915948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0" name=""/>
              <p:cNvSpPr/>
              <p:nvPr/>
            </p:nvSpPr>
            <p:spPr>
              <a:xfrm rot="21435600">
                <a:off x="-1260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61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5E875-CED0-47F3-9EBF-38C1F9EA004D}" type="datetime2">
              <a:rPr b="0" lang="en-US" sz="1200" spc="-1" strike="noStrike">
                <a:solidFill>
                  <a:srgbClr val="045c75"/>
                </a:solidFill>
                <a:latin typeface="Constantia"/>
              </a:rPr>
              <a:t>Thursday, July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 type="ftr" idx="17"/>
          </p:nvPr>
        </p:nvSpPr>
        <p:spPr>
          <a:xfrm>
            <a:off x="259056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 type="sldNum" idx="18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E891B-CB70-4560-AD36-FEF2BFDC8BD6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Forme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Forme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1143000" indent="-22860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600200" indent="-22860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2057400" indent="-22860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304" name="Group 9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305" name="Forme 11"/>
            <p:cNvGrpSpPr/>
            <p:nvPr/>
          </p:nvGrpSpPr>
          <p:grpSpPr>
            <a:xfrm>
              <a:off x="-19080" y="203040"/>
              <a:ext cx="9163080" cy="648000"/>
              <a:chOff x="-19080" y="203040"/>
              <a:chExt cx="9163080" cy="648000"/>
            </a:xfrm>
          </p:grpSpPr>
          <p:pic>
            <p:nvPicPr>
              <p:cNvPr id="30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-1800" y="203040"/>
                <a:ext cx="914580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7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Forme 12"/>
            <p:cNvGrpSpPr/>
            <p:nvPr/>
          </p:nvGrpSpPr>
          <p:grpSpPr>
            <a:xfrm>
              <a:off x="-12960" y="248040"/>
              <a:ext cx="9174960" cy="561600"/>
              <a:chOff x="-12960" y="248040"/>
              <a:chExt cx="9174960" cy="561600"/>
            </a:xfrm>
          </p:grpSpPr>
          <p:pic>
            <p:nvPicPr>
              <p:cNvPr id="30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2520" y="248040"/>
                <a:ext cx="915948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0" name=""/>
              <p:cNvSpPr/>
              <p:nvPr/>
            </p:nvSpPr>
            <p:spPr>
              <a:xfrm rot="21435600">
                <a:off x="-1260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11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49D82-3FAE-4CD4-8220-2833B589313B}" type="datetime2">
              <a:rPr b="0" lang="en-US" sz="1200" spc="-1" strike="noStrike">
                <a:solidFill>
                  <a:srgbClr val="045c75"/>
                </a:solidFill>
                <a:latin typeface="Constantia"/>
              </a:rPr>
              <a:t>Thursday, July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0"/>
          </p:nvPr>
        </p:nvSpPr>
        <p:spPr>
          <a:xfrm>
            <a:off x="259056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1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7E2D0-00D1-4B96-9E5D-73B850A7CF35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Forme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Forme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1143000" indent="-22860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600200" indent="-22860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2057400" indent="-22860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354" name="Group 9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355" name="Forme 11"/>
            <p:cNvGrpSpPr/>
            <p:nvPr/>
          </p:nvGrpSpPr>
          <p:grpSpPr>
            <a:xfrm>
              <a:off x="-19080" y="203040"/>
              <a:ext cx="9163080" cy="648000"/>
              <a:chOff x="-19080" y="203040"/>
              <a:chExt cx="9163080" cy="648000"/>
            </a:xfrm>
          </p:grpSpPr>
          <p:pic>
            <p:nvPicPr>
              <p:cNvPr id="35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-1800" y="203040"/>
                <a:ext cx="914580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7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8" name="Forme 12"/>
            <p:cNvGrpSpPr/>
            <p:nvPr/>
          </p:nvGrpSpPr>
          <p:grpSpPr>
            <a:xfrm>
              <a:off x="-12960" y="248040"/>
              <a:ext cx="9174960" cy="561600"/>
              <a:chOff x="-12960" y="248040"/>
              <a:chExt cx="9174960" cy="561600"/>
            </a:xfrm>
          </p:grpSpPr>
          <p:pic>
            <p:nvPicPr>
              <p:cNvPr id="3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2520" y="248040"/>
                <a:ext cx="915948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0" name=""/>
              <p:cNvSpPr/>
              <p:nvPr/>
            </p:nvSpPr>
            <p:spPr>
              <a:xfrm rot="21435600">
                <a:off x="-1260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61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5DE62-4835-4E5D-941B-BBF519E07C75}" type="datetime2">
              <a:rPr b="0" lang="en-US" sz="1200" spc="-1" strike="noStrike">
                <a:solidFill>
                  <a:srgbClr val="045c75"/>
                </a:solidFill>
                <a:latin typeface="Constantia"/>
              </a:rPr>
              <a:t>Thursday, July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 type="ftr" idx="23"/>
          </p:nvPr>
        </p:nvSpPr>
        <p:spPr>
          <a:xfrm>
            <a:off x="259056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 type="sldNum" idx="24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4738C-6187-4695-971D-C49595BFA78E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Forme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Forme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1143000" indent="-22860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600200" indent="-22860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2057400" indent="-22860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404" name="Group 9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405" name="Forme 11"/>
            <p:cNvGrpSpPr/>
            <p:nvPr/>
          </p:nvGrpSpPr>
          <p:grpSpPr>
            <a:xfrm>
              <a:off x="-19080" y="203040"/>
              <a:ext cx="9163080" cy="648000"/>
              <a:chOff x="-19080" y="203040"/>
              <a:chExt cx="9163080" cy="648000"/>
            </a:xfrm>
          </p:grpSpPr>
          <p:pic>
            <p:nvPicPr>
              <p:cNvPr id="40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-1800" y="203040"/>
                <a:ext cx="914580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7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8" name="Forme 12"/>
            <p:cNvGrpSpPr/>
            <p:nvPr/>
          </p:nvGrpSpPr>
          <p:grpSpPr>
            <a:xfrm>
              <a:off x="-12960" y="248040"/>
              <a:ext cx="9174960" cy="561600"/>
              <a:chOff x="-12960" y="248040"/>
              <a:chExt cx="9174960" cy="561600"/>
            </a:xfrm>
          </p:grpSpPr>
          <p:pic>
            <p:nvPicPr>
              <p:cNvPr id="40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2520" y="248040"/>
                <a:ext cx="915948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0" name=""/>
              <p:cNvSpPr/>
              <p:nvPr/>
            </p:nvSpPr>
            <p:spPr>
              <a:xfrm rot="21435600">
                <a:off x="-1260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11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55839-D10A-45E8-8D49-6E55AB009C07}" type="datetime2">
              <a:rPr b="0" lang="en-US" sz="1200" spc="-1" strike="noStrike">
                <a:solidFill>
                  <a:srgbClr val="045c75"/>
                </a:solidFill>
                <a:latin typeface="Constantia"/>
              </a:rPr>
              <a:t>Thursday, July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 type="ftr" idx="26"/>
          </p:nvPr>
        </p:nvSpPr>
        <p:spPr>
          <a:xfrm>
            <a:off x="259056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 type="sldNum" idx="27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98F11-AA53-4FD8-A8CA-E356F0258717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ubTitle"/>
          </p:nvPr>
        </p:nvSpPr>
        <p:spPr>
          <a:xfrm>
            <a:off x="1214280" y="3428640"/>
            <a:ext cx="5734080" cy="5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ffffff"/>
                </a:solidFill>
                <a:latin typeface="Calibri"/>
              </a:rPr>
              <a:t>DESCRIPTION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01" name="Forme 2"/>
          <p:cNvSpPr/>
          <p:nvPr/>
        </p:nvSpPr>
        <p:spPr>
          <a:xfrm>
            <a:off x="1187280" y="2781360"/>
            <a:ext cx="655344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000000"/>
                </a:solidFill>
                <a:latin typeface="Calibri"/>
              </a:rPr>
              <a:t>PRESENTATION NA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5000" spc="-1" strike="noStrike">
                <a:solidFill>
                  <a:srgbClr val="04617b"/>
                </a:solidFill>
                <a:latin typeface="Calibri"/>
              </a:rPr>
              <a:t>Titl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0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Constantia"/>
              </a:rPr>
              <a:t>Conten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6T22:14:08Z</dcterms:created>
  <dc:creator>Ric</dc:creator>
  <dc:description/>
  <dc:language>en-US</dc:language>
  <cp:lastModifiedBy>Mediac</cp:lastModifiedBy>
  <dcterms:modified xsi:type="dcterms:W3CDTF">2007-05-11T19:49:22Z</dcterms:modified>
  <cp:revision>4</cp:revision>
  <dc:subject/>
  <dc:title>PRESENTATION  NAME</dc:title>
</cp:coreProperties>
</file>