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BE9-1B1E-481C-A4C9-2180A0FD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CD0-9830-4581-8E15-22B5B372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C79-7D0B-4364-9BA1-2E84901C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74E-108F-403E-B336-269F9059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9020-5EE2-4F0D-B74F-15DE8A0B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E85A-4EB1-452C-86DE-741C8845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12F6-9770-4448-9663-41789ADC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B718-10D0-47FF-AE2E-DBC88B65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CC10-C48E-4EBB-86B3-EE964793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3999-9E7A-4BC9-B554-BE47183D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30CD-E8B9-4ECE-A57E-52B837C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284-5BC9-4ECD-B56C-F2218D62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69B1-9571-45D8-BFAE-B8F814A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EA39-8F39-4627-B887-AB0BB842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EF71-49AE-456D-A7B2-67C91BDF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36C-D435-4555-95E1-A9857EA0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F8DC-AF66-4D73-A3A7-3ECE1ADF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33E-DBDE-4075-91EB-DE31E2CA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E87-E9BC-4517-9E3F-34E939B9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77E-35C7-4B3A-9930-A241AF3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142-F3EB-4C77-A9F8-3F83BD09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E3F-68BB-450F-97F5-D19630CE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8EC-BC93-48E6-9AA7-1A98427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FA0-ADB7-49E9-B6A9-E359EAF4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639" t="0" r="365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04BD-E599-47FD-B56E-05A365070A31}" type="slidenum"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3639" t="0" r="365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B620-FABC-423F-A325-9A9103A0E236}" type="slidenum">
              <a:rPr b="0" lang="en-US" sz="1400" spc="-1" strike="noStrike">
                <a:solidFill>
                  <a:srgbClr val="008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80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8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024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4080"/>
                </a:solidFill>
                <a:latin typeface="Arial"/>
              </a:rPr>
              <a:t>Clouds</a:t>
            </a:r>
            <a:endParaRPr b="0" lang="en-US" sz="9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70000" y="35812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8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27160" y="141768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41768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66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0080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8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ff"/>
                      </a:solidFill>
                    </a:lnL>
                    <a:lnR w="5760">
                      <a:solidFill>
                        <a:srgbClr val="0080ff"/>
                      </a:solidFill>
                    </a:lnR>
                    <a:lnT w="13680">
                      <a:solidFill>
                        <a:srgbClr val="0080ff"/>
                      </a:solidFill>
                    </a:lnT>
                    <a:lnB w="5760">
                      <a:solidFill>
                        <a:srgbClr val="00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8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ff"/>
                      </a:solidFill>
                    </a:lnL>
                    <a:lnR w="13680">
                      <a:solidFill>
                        <a:srgbClr val="0080ff"/>
                      </a:solidFill>
                    </a:lnR>
                    <a:lnT w="13680">
                      <a:solidFill>
                        <a:srgbClr val="0080ff"/>
                      </a:solidFill>
                    </a:lnT>
                    <a:lnB w="5760">
                      <a:solidFill>
                        <a:srgbClr val="0080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8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ff"/>
                      </a:solidFill>
                    </a:lnL>
                    <a:lnR w="5760">
                      <a:solidFill>
                        <a:srgbClr val="0080ff"/>
                      </a:solidFill>
                    </a:lnR>
                    <a:lnT w="5760">
                      <a:solidFill>
                        <a:srgbClr val="0080ff"/>
                      </a:solidFill>
                    </a:lnT>
                    <a:lnB w="13680">
                      <a:solidFill>
                        <a:srgbClr val="00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8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ff"/>
                      </a:solidFill>
                    </a:lnL>
                    <a:lnR w="13680">
                      <a:solidFill>
                        <a:srgbClr val="0080ff"/>
                      </a:solidFill>
                    </a:lnR>
                    <a:lnT w="5760">
                      <a:solidFill>
                        <a:srgbClr val="0080ff"/>
                      </a:solidFill>
                    </a:lnT>
                    <a:lnB w="13680">
                      <a:solidFill>
                        <a:srgbClr val="00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38080" y="4114800"/>
            <a:ext cx="223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4114800"/>
            <a:ext cx="223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8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rique Chuez</cp:lastModifiedBy>
  <dcterms:modified xsi:type="dcterms:W3CDTF">2007-06-22T14:30:55Z</dcterms:modified>
  <cp:revision>6</cp:revision>
  <dc:subject/>
  <dc:title>Flowers</dc:title>
</cp:coreProperties>
</file>