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3AF1-CA14-4C1E-A161-2CAB966A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10E-8439-4DE5-87FA-0B92DE62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8D990-7B2E-400D-A720-F9E84A05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24651-C2E1-4B94-804D-A0237947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7FE89-26A6-4698-94C8-4D6639B6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C0173-1F2D-4E0B-8351-EC50BAD6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EC547-675E-40D5-B7E0-7C6D3D11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A4EAC-F1F4-468D-90EB-AE422150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E1318-0515-4D6A-98C7-C3B3892F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F2166-56E1-4A90-B936-5FBBEFA9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0552C-4E93-41EA-8462-C4270C77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440CB-24B7-4581-9696-8B93D690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DBA2-D156-4CD9-A7BA-478A1FC0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557C7-2EDE-44F8-9E17-26099E83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40833-4ACE-417B-8461-986A5FB3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B0002-935F-4B09-85CC-3F11F96A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9636E-5958-4D31-961F-1CD0D6A3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82198-FCDC-449F-B834-48CEF6FB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A5F22-89DE-459D-8688-47EF8DBF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2B6DE-A2E5-4C01-94A4-9C78BBCB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82EE9-A33F-47A1-BDC4-96AD811A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E4807-5DF5-45FA-B3E7-F51D0CC5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853B8-A474-43D2-802B-AD8B6AAD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24E-B21C-46FD-A4FE-20831455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04B0F-9FFB-4F12-A11C-7137FC11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1195-3E67-453A-80EB-4B9AD417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DD06-F7A8-419A-B3C5-ACE242C4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B969-D238-4348-9A05-92359A43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4876-8677-487B-B45E-4598EE97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2275-90DA-4E24-977B-FF4CE238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50BF-2187-42BC-A4D2-08E64609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37E0-BF57-4070-8470-6B02004D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6ADF-1DCE-4F6B-9589-25A409DB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8FA2-947C-42D5-B031-26400D91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18C3-FF8B-4440-8B6A-862385FB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5BD5-F33E-4CD4-B7F0-A352BEEC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6687-B8C9-46E8-B071-5AB21291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BD4F-CF6C-4123-8A7D-AAA26EC2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F90B3-55F2-4402-B168-FC8D73A1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F2A2F-144A-49B2-BECE-4D21616B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DC608-C634-4A26-9A55-C62BB7E9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A0C19-4532-4E34-BAF5-6D11A970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06B78-9371-4A08-888C-3094A3CF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44C-01D9-4EFE-884F-369442A0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7CDD2-82BF-4B4B-8ABC-6FD75B84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68900-8A61-4BFB-8B29-73EC8533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9B5EB-3B99-474A-A896-4D6ECBED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06017-13DB-40C4-B28F-61D0BD60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BE3C3-3F54-4DBA-AC71-5D840FEE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D71E8-6C4E-428E-85B3-F54205EF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74C7C-DEDC-4791-A364-F80FE273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80E7F-FC8A-4571-B655-54F95A5A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2A5DF-6ED3-4881-AA47-B62167E4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6270A-8892-40BF-9CF4-4B06D954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0C15-35BC-4774-8868-E8718356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4EA56-7B35-4B2A-BDB4-4C79E77E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2725A-61AF-41F3-B100-8609AAC1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1CB5D-8224-44D3-89BD-9D044467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2D028-DA9A-4D74-8466-C7D78A1C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2D7CA-776C-4F78-A550-2C5DDA19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3732C-DAFB-4316-8834-B6FFD581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883EC-4AF5-4089-AF9C-0E18A750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279DF-9C61-4951-9EBC-615223DA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82C5C-A8C5-4FD3-91A6-3A0887DF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A264A-3B03-4C9B-868E-3501C83E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18E-2079-4B59-8BF9-F6EBFAE5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D8120-F620-4A81-B6AA-CAAF5E34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117B7-DFF9-4E1C-8EB3-4C4D5DD4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F4608-8951-4446-8A14-C943EA25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E71FB-1399-49A6-BE05-0F1E4EC1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3256A-873F-47ED-8F76-F27F3330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0E510-BFB4-4E19-95D5-B672180A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BDBD8-9814-475A-96DB-1A8E5895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3BEB6-B6AC-4575-8890-FCDC916E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03B70-C163-4412-A6B5-1EBE1A12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681ED-2E81-4E6C-9CF3-721DC08D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1FB7-3F5E-4E4B-8717-A3E0B90C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51105-0816-43DC-9B0A-520ED778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80BA0-85F5-48FF-9CFA-B0DCF36D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BB48A-E538-4160-A02E-D7AD4F24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9EBBD-A13C-4A0B-88B3-E57EC7B6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82ED5-5EAE-4018-8849-C7CE70D9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E4985-9F46-4DB2-809A-FF3F421C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0D272-274E-4C80-A2B6-1528A830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B94F8-36AD-4565-91D1-37B65160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ACB1E-5B15-4106-AABD-EFB91A23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D343A-4DEC-4AB1-AB9A-38AB9E9D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9949-6929-47F4-B31D-0AE1DC19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D5978-2FE6-4876-9F8F-245547ED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8D9CD-8335-4910-AF77-1DED2D8D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DEEAC-A9E3-45DF-8811-3C641FDB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5942C-1182-4E3F-9CBA-ADC9CD0D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C6E39-E19F-4825-95D4-67B6EEBF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ED839-83A4-4793-8C28-774139DC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80AE6-6655-46B8-BF82-C9EF8C47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B94EE-B3DB-4042-A813-2731F7CC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F4745-2E83-43E2-9442-A63B1734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98BE9-8D64-4E28-B92D-D3D51E6D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E8C-0E05-4F4B-B098-BC66EE05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06BA5-D5BB-4EB5-8B7F-ADD00ECC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D359E-72D1-4DFB-BAB5-52F03DC4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F7E98-D6A2-4F7C-9E44-5ABF199A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18091-EFDC-466F-84CF-043F536C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0C5A9-B54F-4E15-AC17-322B47EB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35750-2D85-43C8-A2B8-D45155A8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F4E6D-980A-4941-853A-EE478C14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3093F-82B0-4558-9F6D-22E56452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F74D2-4863-4B15-929C-791DB0D2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E6C8D-ACBC-42F8-B22C-BE3F2E24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B61F-567C-4E93-BB5B-50F418EF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71375-06D7-4E40-A85C-21658FF6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0CCE9-94C4-424D-BF24-3E9405FA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71A15-AFA9-4E36-8B5C-FEFF837E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64E47-F799-447C-9B5F-04FD126E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F546A-0FC1-4CA2-A264-FF6D5DE7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3B6D3-08FB-4A08-9157-A8D5EC79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40469-E0BA-407C-AECF-13A7A0FC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8F1B1-266C-4B65-A2F4-381432F5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F3E43-7EF5-4701-96C0-42323110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54B27-558E-4135-9D3F-5271962D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6AAF-3CF7-41AB-93C6-5D4C4AB704E7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4D9F-7C67-4707-AD90-E775CFB067C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F866-7158-4CCF-9BBA-71A9F1085BD8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416B-71A2-4D97-9225-2CEFBC9E421B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Forme 9"/>
          <p:cNvSpPr/>
          <p:nvPr/>
        </p:nvSpPr>
        <p:spPr>
          <a:xfrm rot="16200000">
            <a:off x="7553880" y="5254920"/>
            <a:ext cx="189252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935F-2126-4446-B9B2-73895130D23D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DA10-B386-4136-AEAF-C9115BCA36C9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6652-9990-46BE-B402-8D280577BF6B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C1CA-5766-496F-9E1D-0CAAA1C362C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Forme 6"/>
          <p:cNvSpPr/>
          <p:nvPr/>
        </p:nvSpPr>
        <p:spPr>
          <a:xfrm flipV="1" rot="5400000">
            <a:off x="7554240" y="310320"/>
            <a:ext cx="18921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riangle rectangle 7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Connecteur droit 8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Connecteur droit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9D4E-B9F8-4880-A87F-36931701D70A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C313-D580-4BCB-A42B-DEED9776AB62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10E9-1474-47CD-B50E-11BEE84361D3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134E-882F-41EE-8572-39BE21BFDEF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CDFA-D2BA-43EE-B88C-D454C1D49C7D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B5A0-AABB-4C98-9FD0-6F3F1E9F00B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C4CC-2831-4FA6-8415-F1E18553328C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98EC-72BD-4BD1-8554-901C79E9C91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B15F-815F-4228-A624-CE5A146EE05E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8AFD-6B34-4308-B7C6-C7072369DBF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7690-01BD-4217-8291-218E32D79F00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BBBA-47AF-4AEB-8288-E5276CB919AD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703960" y="1916280"/>
            <a:ext cx="57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62c4"/>
                </a:solidFill>
                <a:latin typeface="Arial"/>
              </a:rPr>
              <a:t>PRESENTATION N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511960" y="3068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Forme 2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550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Century Gothic"/>
              </a:rPr>
              <a:t>Cont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86160" y="476280"/>
            <a:ext cx="113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7f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550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Century Gothic"/>
              </a:rPr>
              <a:t>Conten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"/>
          <p:cNvSpPr/>
          <p:nvPr/>
        </p:nvSpPr>
        <p:spPr>
          <a:xfrm>
            <a:off x="2486160" y="476280"/>
            <a:ext cx="113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3T20:13:44Z</dcterms:created>
  <dc:creator>Ric</dc:creator>
  <dc:description/>
  <dc:language>en-US</dc:language>
  <cp:lastModifiedBy>Mediac</cp:lastModifiedBy>
  <dcterms:modified xsi:type="dcterms:W3CDTF">2007-03-11T20:32:17Z</dcterms:modified>
  <cp:revision>10</cp:revision>
  <dc:subject/>
  <dc:title>PRESENTATION NAME</dc:title>
</cp:coreProperties>
</file>