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949-825B-4E79-8E58-43BBE1D5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4E5-51A0-4376-A382-B6E184FF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CCD-97CE-43C4-9CD8-4B3B4694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8024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123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77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98024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123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5BA-F6E6-4C8F-AE05-E708BCEB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365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8E7-52F0-4D33-9CD1-BA01024C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8024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912360" y="236232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77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98024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912360" y="4193280"/>
            <a:ext cx="1839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419-ABF7-4123-B60E-81C7BED3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159-672E-4A15-8573-56F9B6CF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882-5EEB-48E3-9D69-5FF203C7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3657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5A3-3BF5-443A-BDD5-CFCB5A34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B9F-7065-489A-AF1D-2944F379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76000" y="419328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1D2-FA73-4831-96EA-A181F82C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76000" y="2362320"/>
            <a:ext cx="2788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7760" y="4193280"/>
            <a:ext cx="5715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B9C-46BD-49CC-B1E5-4395BCD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4572000" cy="990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399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AD01-01BF-4EB4-AD3D-A0D82F5FC5BA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12887" r="0" b="71147"/>
          <a:stretch/>
        </p:blipFill>
        <p:spPr>
          <a:xfrm>
            <a:off x="0" y="0"/>
            <a:ext cx="4591080" cy="838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22430" r="0" b="50159"/>
          <a:stretch/>
        </p:blipFill>
        <p:spPr>
          <a:xfrm>
            <a:off x="4572000" y="0"/>
            <a:ext cx="457200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V="1">
            <a:off x="4572000" y="0"/>
            <a:ext cx="0" cy="838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248520"/>
            <a:ext cx="4572000" cy="609480"/>
          </a:xfrm>
          <a:prstGeom prst="rect">
            <a:avLst/>
          </a:prstGeom>
          <a:solidFill>
            <a:srgbClr val="de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6242040"/>
            <a:ext cx="4572000" cy="609480"/>
          </a:xfrm>
          <a:prstGeom prst="rect">
            <a:avLst/>
          </a:prstGeom>
          <a:solidFill>
            <a:srgbClr val="d1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28240" y="63244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5629" r="0" b="7258"/>
          <a:stretch/>
        </p:blipFill>
        <p:spPr>
          <a:xfrm>
            <a:off x="0" y="1676520"/>
            <a:ext cx="459108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4572000" cy="3057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0" t="16604" r="0" b="21621"/>
          <a:stretch/>
        </p:blipFill>
        <p:spPr>
          <a:xfrm>
            <a:off x="4572000" y="4724280"/>
            <a:ext cx="28195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91520" y="4724280"/>
            <a:ext cx="1752480" cy="1524240"/>
          </a:xfrm>
          <a:prstGeom prst="rect">
            <a:avLst/>
          </a:prstGeom>
          <a:solidFill>
            <a:srgbClr val="99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1676520"/>
            <a:ext cx="0" cy="457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724280"/>
            <a:ext cx="4572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4724280"/>
            <a:ext cx="0" cy="1524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9999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7960" y="632448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7760" y="2362320"/>
            <a:ext cx="5715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30:11Z</dcterms:created>
  <dc:creator> </dc:creator>
  <dc:description/>
  <dc:language>en-US</dc:language>
  <cp:lastModifiedBy> </cp:lastModifiedBy>
  <dcterms:modified xsi:type="dcterms:W3CDTF">2005-01-17T11:27:31Z</dcterms:modified>
  <cp:revision>2</cp:revision>
  <dc:subject/>
  <dc:title>Slide 1</dc:title>
</cp:coreProperties>
</file>