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7162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828440" y="4242960"/>
            <a:ext cx="7162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82844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49900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50160" y="213372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672240" y="213372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828440" y="424296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250160" y="424296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672240" y="424296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28800" y="1400040"/>
            <a:ext cx="73152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2844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9900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828440" y="4242960"/>
            <a:ext cx="7162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7162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828440" y="4242960"/>
            <a:ext cx="7162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82844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49900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250160" y="213372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72240" y="213372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828440" y="424296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250160" y="424296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72240" y="424296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828800" y="1400040"/>
            <a:ext cx="73152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82844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900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28440" y="4242960"/>
            <a:ext cx="7162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292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295280" y="1752480"/>
            <a:ext cx="78487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28800" y="1400040"/>
            <a:ext cx="7315200" cy="581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b4cce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1838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1838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22860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 LOGO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ww.company.com</a:t>
            </a:r>
            <a:endParaRPr b="0" lang="en-US" sz="1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3352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19384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95416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71484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47516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5237280" y="6159600"/>
            <a:ext cx="6480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599760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75792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751824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28036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29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22860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 LOGO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ww.company.com</a:t>
            </a:r>
            <a:endParaRPr b="0" lang="en-US" sz="1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8640" y="3581280"/>
            <a:ext cx="57150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ab1a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cab1a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b4cce2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3883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b4cce2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b4cce2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1838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1838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4930560"/>
            <a:ext cx="678204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ab1a"/>
                </a:solidFill>
                <a:latin typeface="Verdana"/>
              </a:rPr>
              <a:t>Presentation TITLE</a:t>
            </a:r>
            <a:endParaRPr b="1" lang="en-US" sz="3600" spc="-1" strike="noStrike">
              <a:solidFill>
                <a:srgbClr val="fcab1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1400040"/>
            <a:ext cx="7315200" cy="581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Example Bullet Point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These templates are for personal use only and must not be distributed, sold or displayed on the web by anyone other than Presentation Helper. 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3883"/>
                </a:solidFill>
                <a:latin typeface="Arial"/>
              </a:rPr>
              <a:t>Bullet point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Sub Bullet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1400040"/>
            <a:ext cx="7315200" cy="581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Example of a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057400" y="2451240"/>
          <a:ext cx="6469200" cy="33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451240"/>
                    <a:ext cx="646920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1400040"/>
            <a:ext cx="7315200" cy="581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ictur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508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Bullet 1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Bullet 2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516720" y="2338560"/>
            <a:ext cx="2093760" cy="3528720"/>
          </a:xfrm>
          <a:prstGeom prst="rect">
            <a:avLst/>
          </a:prstGeom>
          <a:ln w="38160">
            <a:solidFill>
              <a:srgbClr val="0099a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800" y="1400040"/>
            <a:ext cx="7315200" cy="581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Examples of default sty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51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Text and lines are like thi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65b91"/>
                </a:solidFill>
                <a:uFillTx/>
                <a:latin typeface="Arial"/>
              </a:rPr>
              <a:t>Hyperlinks like thi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af"/>
                </a:solidFill>
                <a:uFillTx/>
                <a:latin typeface="Arial"/>
              </a:rPr>
              <a:t>Visited hyperlinks like thi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72200" y="2295360"/>
          <a:ext cx="2759040" cy="1438560"/>
        </p:xfrm>
        <a:graphic>
          <a:graphicData uri="http://schemas.openxmlformats.org/drawingml/2006/table">
            <a:tbl>
              <a:tblPr/>
              <a:tblGrid>
                <a:gridCol w="1379520"/>
                <a:gridCol w="137952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183883"/>
                          </a:solidFill>
                          <a:latin typeface="Arial"/>
                        </a:rPr>
                        <a:t>Table</a:t>
                      </a:r>
                      <a:endParaRPr b="0" lang="en-US" sz="2000" spc="-1" strike="noStrike">
                        <a:solidFill>
                          <a:srgbClr val="18388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83883"/>
                      </a:solidFill>
                    </a:lnL>
                    <a:lnR w="5760">
                      <a:solidFill>
                        <a:srgbClr val="183883"/>
                      </a:solidFill>
                    </a:lnR>
                    <a:lnT w="13680">
                      <a:solidFill>
                        <a:srgbClr val="183883"/>
                      </a:solidFill>
                    </a:lnT>
                    <a:lnB w="5760">
                      <a:solidFill>
                        <a:srgbClr val="1838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8388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83883"/>
                      </a:solidFill>
                    </a:lnL>
                    <a:lnR w="13680">
                      <a:solidFill>
                        <a:srgbClr val="183883"/>
                      </a:solidFill>
                    </a:lnR>
                    <a:lnT w="13680">
                      <a:solidFill>
                        <a:srgbClr val="183883"/>
                      </a:solidFill>
                    </a:lnT>
                    <a:lnB w="5760">
                      <a:solidFill>
                        <a:srgbClr val="183883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8388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83883"/>
                      </a:solidFill>
                    </a:lnL>
                    <a:lnR w="5760">
                      <a:solidFill>
                        <a:srgbClr val="183883"/>
                      </a:solidFill>
                    </a:lnR>
                    <a:lnT w="5760">
                      <a:solidFill>
                        <a:srgbClr val="183883"/>
                      </a:solidFill>
                    </a:lnT>
                    <a:lnB w="13680">
                      <a:solidFill>
                        <a:srgbClr val="1838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8388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83883"/>
                      </a:solidFill>
                    </a:lnL>
                    <a:lnR w="13680">
                      <a:solidFill>
                        <a:srgbClr val="183883"/>
                      </a:solidFill>
                    </a:lnR>
                    <a:lnT w="5760">
                      <a:solidFill>
                        <a:srgbClr val="183883"/>
                      </a:solidFill>
                    </a:lnT>
                    <a:lnB w="13680">
                      <a:solidFill>
                        <a:srgbClr val="18388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2362320" y="4118040"/>
            <a:ext cx="2232000" cy="1368360"/>
          </a:xfrm>
          <a:prstGeom prst="rect">
            <a:avLst/>
          </a:prstGeom>
          <a:solidFill>
            <a:srgbClr val="d4e3f7"/>
          </a:solidFill>
          <a:ln w="9360">
            <a:solidFill>
              <a:srgbClr val="1838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83883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18320" y="4118040"/>
            <a:ext cx="2232000" cy="1368360"/>
          </a:xfrm>
          <a:prstGeom prst="rect">
            <a:avLst/>
          </a:prstGeom>
          <a:solidFill>
            <a:srgbClr val="d4e3f7"/>
          </a:solidFill>
          <a:ln w="9360">
            <a:solidFill>
              <a:srgbClr val="18388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83883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83883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410080" y="2362320"/>
            <a:ext cx="460440" cy="1440"/>
          </a:xfrm>
          <a:prstGeom prst="line">
            <a:avLst/>
          </a:prstGeom>
          <a:ln w="12600">
            <a:solidFill>
              <a:srgbClr val="18388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4:06:28Z</dcterms:created>
  <dc:creator>Retina</dc:creator>
  <dc:description/>
  <dc:language>en-US</dc:language>
  <cp:lastModifiedBy>Jonty Pearce</cp:lastModifiedBy>
  <dcterms:modified xsi:type="dcterms:W3CDTF">2005-03-27T06:31:59Z</dcterms:modified>
  <cp:revision>2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Presentation Helper</vt:lpwstr>
  </property>
</Properties>
</file>