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462-CB7E-4CC6-AD42-3CD965B7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5AA-D81E-49DA-863A-6C6AF415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809-8BBD-41BE-9B71-3D56525A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D65-35D8-43E4-A9E5-294ED3FD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F53-2887-4CE3-9E4B-09B61FFD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9CA-4488-4ACD-AF6D-6976C3E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BFF-BF1D-4DF6-8B63-C080AD48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614-1102-4138-B1A7-94993EE7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072-4B0D-4C29-B286-C7861CDB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B27-FD01-4364-AB30-1B38182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94D-E55E-4A81-B309-A17679E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49B-71FA-4D5C-8221-84114E3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FE7B-0478-41C6-8BC2-C57B403D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478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6224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11:22Z</dcterms:created>
  <dc:creator>Mediac</dc:creator>
  <dc:description/>
  <dc:language>en-US</dc:language>
  <cp:lastModifiedBy>Mediac</cp:lastModifiedBy>
  <dcterms:modified xsi:type="dcterms:W3CDTF">2007-05-14T17:12:48Z</dcterms:modified>
  <cp:revision>2</cp:revision>
  <dc:subject/>
  <dc:title>PRESENTATION  NAME</dc:title>
</cp:coreProperties>
</file>