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12C-FE54-4E44-A852-C12450D0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5F3-5BEC-4CD1-8C60-D1E11213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1DE-27DA-4A0F-A1AE-B047FE28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921-33BB-42DE-9D1E-76CCA52D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490-F7A1-4638-9B59-B0641D5A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06C-5943-486E-BF49-2B0B1CF6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8D74-41C7-43DE-B705-D6F5A08E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B2A0-F7A5-49B4-86C8-E5B5CF89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A7D4-BFF4-4C25-8B11-6AFA02C7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5E3-F19D-4EDB-B56C-DBF0AD3E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96E-DF41-4A3E-93D3-A941575C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3E7-8A30-413F-B4A5-2D62341E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60F8-0B62-4620-A646-86948DDDB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4680" y="477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5ab5"/>
                </a:solidFill>
                <a:latin typeface="Arial"/>
              </a:rPr>
              <a:t>PRESENTATION 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3640" y="1197000"/>
            <a:ext cx="36734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5ab5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56000" y="1599840"/>
            <a:ext cx="613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7:36:17Z</dcterms:created>
  <dc:creator>Mediac</dc:creator>
  <dc:description/>
  <dc:language>en-US</dc:language>
  <cp:lastModifiedBy>Mediac</cp:lastModifiedBy>
  <dcterms:modified xsi:type="dcterms:W3CDTF">2007-05-18T18:32:47Z</dcterms:modified>
  <cp:revision>2</cp:revision>
  <dc:subject/>
  <dc:title>PRESENTATION  NAME</dc:title>
</cp:coreProperties>
</file>