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DA88-95A9-42C4-B4E4-5F4FA037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E55D-F231-4BD1-972C-0E967789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7CF5-125C-497A-A34E-C539FFF4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404C-9C17-4CAF-8A3E-D39426C3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BD7A-40C3-4994-B2A6-36638544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075E-0A45-40EA-963A-AEC0B50B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AE9-95BC-49A3-969C-09A30353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90D6-3C33-4CFB-9855-BB95E09A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C52F-770D-47CE-AB9E-A2D305E5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8498-67F9-416A-90F3-49B8633E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4652-CF87-48A8-A454-41AC7A49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878D-6B6A-4DEB-81D1-D7FF887F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D480-E098-4544-B742-DDF5A43B7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9960" y="402732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Arial"/>
              </a:rPr>
              <a:t>PRESENTATION 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4677840"/>
            <a:ext cx="528804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763200"/>
            <a:ext cx="74901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4901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22:26:39Z</dcterms:created>
  <dc:creator>Mediac</dc:creator>
  <dc:description/>
  <dc:language>en-US</dc:language>
  <cp:lastModifiedBy>Mediac</cp:lastModifiedBy>
  <dcterms:modified xsi:type="dcterms:W3CDTF">2006-12-20T22:29:52Z</dcterms:modified>
  <cp:revision>3</cp:revision>
  <dc:subject/>
  <dc:title>PRESENTATION  NAME</dc:title>
</cp:coreProperties>
</file>