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FE9-C5CA-43CD-947A-784D4E6D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440" y="445968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BF6-17EA-47EB-8048-74ED0096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408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410-9EF2-4ED0-A502-58C33D87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292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776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44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292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776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89E-31FB-431E-AB8C-E619FF41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A6EA-9F83-4A43-88F8-CED6B478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385-BB1D-47D8-ACD2-685B91B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7249-5F5A-4FD9-91BC-B39BB677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6FEC-3D65-4FF7-BDC6-73958EBE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035B-8BD8-4106-A83C-5CB8418B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68440" y="1076400"/>
            <a:ext cx="83246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7B09-2B5F-43FE-B11D-5BF4A72A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0CA-CD2D-426A-B70D-E4C62C2C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B4D-253A-46E1-9FAD-46EBFCD6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3408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0BA0-84BF-4E2E-B9D9-1C37E4C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6582-2D26-41EC-893E-4C133ECE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8440" y="445968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D656-5840-479D-91BF-726D4F55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3408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8C5C-50B3-4353-808C-258E364F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292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7760" y="263700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44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292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7760" y="4459680"/>
            <a:ext cx="268020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D787-1E67-4DD0-A6D7-144BEA66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8B1-9689-42FB-A743-DD8EF65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535-A101-43F2-8A3D-43309310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88D-3F9F-47E3-8E47-FF6FED9D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8440" y="1076400"/>
            <a:ext cx="83246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F20-BB84-485C-B5CB-8548B106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E1E-2F38-45C5-96B3-90825AA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4080" y="445968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939-5F3F-4FB6-BA12-EA25A21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4080" y="2637000"/>
            <a:ext cx="40622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8440" y="4459680"/>
            <a:ext cx="8324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477-FB08-4DA4-A2F8-34F1120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C110-466B-4DA1-8AAC-5E13F950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28800" y="2781000"/>
            <a:ext cx="4032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BC98-36BF-495C-9572-F2FE973AF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28800" y="2781000"/>
            <a:ext cx="4032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CONTEMPORARY</a:t>
            </a: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RANG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00360" y="4941720"/>
            <a:ext cx="4103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VELOPMENT STRATE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Example Bullet Point slid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83246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Example of a chart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71640" y="2492280"/>
          <a:ext cx="619308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619308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Picture slid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780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16720" y="2637000"/>
            <a:ext cx="2093760" cy="3528720"/>
          </a:xfrm>
          <a:prstGeom prst="rect">
            <a:avLst/>
          </a:prstGeom>
          <a:ln w="38160">
            <a:solidFill>
              <a:srgbClr val="93441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440" y="1076400"/>
            <a:ext cx="83246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Examples of default styl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8440" y="2637000"/>
            <a:ext cx="40860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and lines are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3441d"/>
                </a:solidFill>
                <a:uFillTx/>
                <a:latin typeface="Arial"/>
              </a:rPr>
              <a:t>Hyperlinks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af5223"/>
                </a:solidFill>
                <a:uFillTx/>
                <a:latin typeface="Arial"/>
              </a:rPr>
              <a:t>Visited hyperlinks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651640" y="2637000"/>
          <a:ext cx="3294000" cy="1655640"/>
        </p:xfrm>
        <a:graphic>
          <a:graphicData uri="http://schemas.openxmlformats.org/drawingml/2006/table">
            <a:tbl>
              <a:tblPr/>
              <a:tblGrid>
                <a:gridCol w="1647000"/>
                <a:gridCol w="164700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755640" y="4653000"/>
            <a:ext cx="2232000" cy="1368360"/>
          </a:xfrm>
          <a:prstGeom prst="rect">
            <a:avLst/>
          </a:prstGeom>
          <a:solidFill>
            <a:srgbClr val="f9d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4653000"/>
            <a:ext cx="2232000" cy="1368360"/>
          </a:xfrm>
          <a:prstGeom prst="rect">
            <a:avLst/>
          </a:prstGeom>
          <a:solidFill>
            <a:srgbClr val="f9d3c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3441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2852640"/>
            <a:ext cx="57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08:05:24Z</dcterms:created>
  <dc:creator>Jonty Pearce</dc:creator>
  <dc:description/>
  <dc:language>en-US</dc:language>
  <cp:lastModifiedBy>Jonty Pearce</cp:lastModifiedBy>
  <dcterms:modified xsi:type="dcterms:W3CDTF">2005-03-19T19:10:06Z</dcterms:modified>
  <cp:revision>5</cp:revision>
  <dc:subject/>
  <dc:title>CONSULTING COMPANY</dc:title>
</cp:coreProperties>
</file>