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446-F18E-4135-8378-02327AAA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1E6-5669-4666-BCB9-808E8A5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725-ECC6-4190-BD8B-1BB588FA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F91-BDE4-4EA7-A74A-B7E05679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A52-2A57-4D64-B492-86BEEEB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C05-804D-4F6D-B3BC-A1E53EE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CA5-BFC4-47F7-A63D-AFA0E546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5B0-7E1F-406C-8E5B-5A65F91D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A57-5C78-4DA2-92DB-63037926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5FB-81AC-4920-9F3F-04D8FBB1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536-9761-452B-A9E8-80E0C1D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AA1-9FB7-44D1-B43D-E19E76A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C58-7C22-49F3-B754-61FD0369834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3080" y="1857240"/>
            <a:ext cx="5600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67120" y="2499840"/>
            <a:ext cx="45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98989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2143080"/>
            <a:ext cx="60008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60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60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08:35Z</dcterms:created>
  <dc:creator>Ric</dc:creator>
  <dc:description/>
  <dc:language>en-US</dc:language>
  <cp:lastModifiedBy>Mediac</cp:lastModifiedBy>
  <dcterms:modified xsi:type="dcterms:W3CDTF">2006-09-26T12:02:02Z</dcterms:modified>
  <cp:revision>6</cp:revision>
  <dc:subject/>
  <dc:title>Diapositive 1</dc:title>
</cp:coreProperties>
</file>