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797-9C39-4AFE-AC24-CDC6AED0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1C0-40BB-4BB0-BA86-771F3E57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320-4A8F-47A8-9854-98521C2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DAE-9937-426A-9F8D-33A6F2F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10E-D90D-4BE1-9C25-7115B35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E24-855D-48C5-AD21-B10A858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F67-78C4-425E-B696-4FFBF2EB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1D2-E10B-4CBD-A264-CE625F4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358-6B78-495D-9696-B021E4CF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9A1-AA4B-4742-AA96-FFB4E9F4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27D-DF6D-4CC0-A4BF-4428DA8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76D-9B3C-477E-B9F5-51D6D4F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C5DE-A033-4902-A86E-87F7EFB7453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3080" y="1857240"/>
            <a:ext cx="5600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67120" y="2499840"/>
            <a:ext cx="45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98989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2143080"/>
            <a:ext cx="60008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60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60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08:35Z</dcterms:created>
  <dc:creator>Ric</dc:creator>
  <dc:description/>
  <dc:language>en-US</dc:language>
  <cp:lastModifiedBy>Mediac</cp:lastModifiedBy>
  <dcterms:modified xsi:type="dcterms:W3CDTF">2006-09-26T12:02:02Z</dcterms:modified>
  <cp:revision>6</cp:revision>
  <dc:subject/>
  <dc:title>Diapositive 1</dc:title>
</cp:coreProperties>
</file>