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F53-22DC-4BCE-AA18-3F65671F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5715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7760" y="4193280"/>
            <a:ext cx="5715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489-295B-4909-9CBE-80C65135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7760" y="419328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76000" y="419328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1B1-68C3-468D-BB66-94B26B3B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80240" y="236232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12360" y="236232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7760" y="419328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980240" y="419328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12360" y="419328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CB1-AD55-46CD-B8E6-880FB0D6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7760" y="2362320"/>
            <a:ext cx="57150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5715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761760"/>
            <a:ext cx="3657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419328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7760" y="2362320"/>
            <a:ext cx="57150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C2E-1821-4733-953C-7CE562EF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76000" y="419328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7760" y="4193280"/>
            <a:ext cx="5715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5715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7760" y="4193280"/>
            <a:ext cx="5715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7760" y="419328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976000" y="419328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80240" y="236232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912360" y="236232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7760" y="419328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980240" y="419328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912360" y="419328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5715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BEE-8D34-452A-82B9-F63B3985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6CB-944B-4C97-A042-452F9C1D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653-99CA-4888-A089-5DFE9290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761760"/>
            <a:ext cx="3657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6F0-8CB3-4699-8B64-811D79BE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7760" y="419328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419-C245-4A67-A31D-DA0A26D6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76000" y="419328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FB0-3219-4DEE-88ED-9739202C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7760" y="4193280"/>
            <a:ext cx="5715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AC7-FEE3-4C8F-8873-EF595F9F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38080"/>
            <a:ext cx="4572000" cy="9907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7760" y="2362320"/>
            <a:ext cx="5715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33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3399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8080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8080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8080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8080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618D-1ED2-43EA-9389-CBF3F659C496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12887" r="0" b="71147"/>
          <a:stretch/>
        </p:blipFill>
        <p:spPr>
          <a:xfrm>
            <a:off x="0" y="0"/>
            <a:ext cx="4591080" cy="8380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rcRect l="0" t="22430" r="0" b="50159"/>
          <a:stretch/>
        </p:blipFill>
        <p:spPr>
          <a:xfrm>
            <a:off x="4572000" y="0"/>
            <a:ext cx="4572000" cy="8380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flipV="1">
            <a:off x="4572000" y="0"/>
            <a:ext cx="0" cy="8380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248520"/>
            <a:ext cx="4572000" cy="609480"/>
          </a:xfrm>
          <a:prstGeom prst="rect">
            <a:avLst/>
          </a:prstGeom>
          <a:solidFill>
            <a:srgbClr val="de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6242040"/>
            <a:ext cx="4572000" cy="609480"/>
          </a:xfrm>
          <a:prstGeom prst="rect">
            <a:avLst/>
          </a:prstGeom>
          <a:solidFill>
            <a:srgbClr val="d1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28240" y="63244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5629" r="0" b="7258"/>
          <a:stretch/>
        </p:blipFill>
        <p:spPr>
          <a:xfrm>
            <a:off x="0" y="1676520"/>
            <a:ext cx="459108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4572000" cy="3057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rcRect l="0" t="16604" r="0" b="21621"/>
          <a:stretch/>
        </p:blipFill>
        <p:spPr>
          <a:xfrm>
            <a:off x="4572000" y="4724280"/>
            <a:ext cx="281952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91520" y="4724280"/>
            <a:ext cx="1752480" cy="1524240"/>
          </a:xfrm>
          <a:prstGeom prst="rect">
            <a:avLst/>
          </a:prstGeom>
          <a:solidFill>
            <a:srgbClr val="9999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572000" y="1676520"/>
            <a:ext cx="0" cy="457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724280"/>
            <a:ext cx="4572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4724280"/>
            <a:ext cx="0" cy="1524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9999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47960" y="632448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5715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30:11Z</dcterms:created>
  <dc:creator> </dc:creator>
  <dc:description/>
  <dc:language>en-US</dc:language>
  <cp:lastModifiedBy> </cp:lastModifiedBy>
  <dcterms:modified xsi:type="dcterms:W3CDTF">2005-01-17T11:27:31Z</dcterms:modified>
  <cp:revision>2</cp:revision>
  <dc:subject/>
  <dc:title>Slide 1</dc:title>
</cp:coreProperties>
</file>