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3F1-D1B3-4B9F-B0C8-88BC2FFE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440" y="445968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EA0-E124-4674-824F-003DA467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408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DB0-C339-4606-AB14-1DB9FFDC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292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776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44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292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776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A50-9E12-4865-86B3-148C6D46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6145-59EC-4DAB-9B77-5499906A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2C0D-A91E-4CFD-8B69-AB8B506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5072-4621-454C-B5EB-E8E6D94C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64D3-C51B-404E-9DFB-DDADE517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51F4-9F51-4CFE-9F15-7AD17874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68440" y="1076400"/>
            <a:ext cx="83246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3B74-236F-4469-A560-25A2CF4D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F7A5-F1F2-41E4-98D7-78C0ABD1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620-0318-44A3-A5DD-B989CD97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3408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F8D0-510E-4A28-A01D-10340CD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179B-63F6-4F02-A45A-10C9820F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8440" y="445968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90BA-FEDB-4444-91AA-7A3386C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3408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11FF-9DCD-48E9-BE84-BCE327A1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292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776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844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8292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776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4B3C-8427-4D76-B94F-5F16CBF2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20E-3D9C-4273-ADDC-3A4BEF92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08E-A651-4D86-9FCF-921147FE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984-EA2A-4E6E-B6E8-ED76D555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8440" y="1076400"/>
            <a:ext cx="83246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709-FB5B-470F-B568-F8C4974F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01B-B3DF-45BF-AA75-D9838A34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408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A0B-713D-43CB-BD57-29385BA7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AC0-245D-4F82-8956-606B6F3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4559-04B6-493F-91CA-F7F735456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28800" y="2781000"/>
            <a:ext cx="4032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AB3-80D9-458E-97DE-97AD1E441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28800" y="2781000"/>
            <a:ext cx="4032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CONTEMPORARY</a:t>
            </a: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ORANG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00360" y="4941720"/>
            <a:ext cx="4103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VELOPMENT STRATE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Example Bullet Point slid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Example of a chart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71640" y="2492280"/>
          <a:ext cx="619308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92280"/>
                    <a:ext cx="619308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Picture slid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780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16720" y="2637000"/>
            <a:ext cx="2093760" cy="3528720"/>
          </a:xfrm>
          <a:prstGeom prst="rect">
            <a:avLst/>
          </a:prstGeom>
          <a:ln w="38160">
            <a:solidFill>
              <a:srgbClr val="93441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Examples of default styl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860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and lines are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3441d"/>
                </a:solidFill>
                <a:uFillTx/>
                <a:latin typeface="Arial"/>
              </a:rPr>
              <a:t>Hyperlinks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af5223"/>
                </a:solidFill>
                <a:uFillTx/>
                <a:latin typeface="Arial"/>
              </a:rPr>
              <a:t>Visited hyperlinks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651640" y="2637000"/>
          <a:ext cx="3294000" cy="1655640"/>
        </p:xfrm>
        <a:graphic>
          <a:graphicData uri="http://schemas.openxmlformats.org/drawingml/2006/table">
            <a:tbl>
              <a:tblPr/>
              <a:tblGrid>
                <a:gridCol w="1647000"/>
                <a:gridCol w="1647000"/>
              </a:tblGrid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755640" y="4653000"/>
            <a:ext cx="2232000" cy="1368360"/>
          </a:xfrm>
          <a:prstGeom prst="rect">
            <a:avLst/>
          </a:prstGeom>
          <a:solidFill>
            <a:srgbClr val="f9d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4653000"/>
            <a:ext cx="2232000" cy="1368360"/>
          </a:xfrm>
          <a:prstGeom prst="rect">
            <a:avLst/>
          </a:prstGeom>
          <a:solidFill>
            <a:srgbClr val="f9d3c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3441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2852640"/>
            <a:ext cx="57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08:05:24Z</dcterms:created>
  <dc:creator>Jonty Pearce</dc:creator>
  <dc:description/>
  <dc:language>en-US</dc:language>
  <cp:lastModifiedBy>Jonty Pearce</cp:lastModifiedBy>
  <dcterms:modified xsi:type="dcterms:W3CDTF">2005-03-19T19:10:06Z</dcterms:modified>
  <cp:revision>5</cp:revision>
  <dc:subject/>
  <dc:title>CONSULTING COMPANY</dc:title>
</cp:coreProperties>
</file>