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8CC-D405-4E1E-8B46-47F9D68C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A93-E57B-496D-98C7-FEF3C57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DC57D-DDFB-4804-A59B-A0A9AE41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B2842-3323-441A-BDF7-E33FD52C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C1635-848E-4D98-9EA2-CD24C18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9F47B-F849-45B2-AAE3-36198C6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D7A20-634C-4D33-8D89-B7A62EB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8BB1F-D3CD-45BE-B3F5-91BCFBCF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5EA5E-FEEA-4F83-AECD-9B274CB7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3D209-E3F1-492D-8E51-186C2D52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2FB0D-B017-461E-98AB-A2446DFE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C7F84-C23A-4925-81FF-FFD1CC2E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56C-1A01-4C5C-B724-D6DE49D1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B9C9E-F42C-4CD4-BC8E-A8EEC62A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D794C-FF75-4A9E-BEEC-446359B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31540-588E-49EA-8914-6FC322A7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54B24-F0B2-4F68-8D8E-3B2E7830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1A92F-E4DA-4846-B0A6-D824EFAD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8B8B4-7F8A-41A9-B213-A01EC4E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08B96-625A-4739-95DB-B63CE7C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D8532-3888-46BD-BF8B-459BEF11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B1576-9F64-4DA3-8A00-BC85FBCE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F7452-D8CA-4163-B248-558FEA22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E56-D6C1-4E05-BD32-6EAF6709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3B859-CD8B-4406-99F4-CB91A61C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8DA5-CBBE-4C83-A28B-4027CD90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A962-AB30-4E25-9202-F340E4BC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7B1D-4BC5-4B36-9E80-0F38DAF5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D28-457F-47A7-A0D6-697ABBE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4F20-E386-4190-8772-A848F352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5060-A267-4FDD-A75F-55A1542C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1144-856F-45D3-B45E-B0D411CD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30E-AFE7-424C-A903-D29837A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2820-8F05-430D-871F-7E5078C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C709-CEC5-4005-A123-9149E1C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18D8-286F-4686-8913-94EAA825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D57F-4F1A-462E-8249-373560CA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E5D6-6709-4823-B496-EB5851BF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B743-4EAC-4C25-8C64-8288DA3B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BCC9-3657-40EF-ACD4-99210E2D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9BC4-5DF9-4E04-BC7B-52C046B5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7C9C-1FAF-4C63-A79D-177C862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27D1-3BC5-41AE-B0B3-F44B84D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E90-91C1-41D9-A5CA-82BD7F68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291F-0444-44A3-BB51-06E86E3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7860-09E4-4804-BB4C-EBC102F1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1079-79FF-4385-A6CC-667A5862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4C60-EFE7-45F1-A3B2-52D7F30E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84C5-ED8F-44AB-A630-9F00DDB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F62D-47EA-4CF5-AEED-211A9BF6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867E-20D8-484A-9D9D-945A782C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D81A-5D09-492D-AAD8-40E4B902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6DE4-771D-4712-80C5-03D86709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6C76-6208-4914-A805-4D50E75B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FAD-87FC-423C-9BC7-9E276820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EBC6-EF25-479D-8127-D4BF7487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BD73C-D45B-4DFC-89DF-312F34B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9D02-0920-4B3F-B9A3-EAF286A0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27CB-1E82-478C-B5E6-899DAB4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D2FE-2320-49E5-BD5E-A74FD587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6725-0FD4-4FE6-8BE8-8B63882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7B45-BEEE-4F44-8E30-5A8E1DA3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F4C6-B2E2-40C1-AF96-468796E5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3670-3C5D-4BB9-A260-0EFECF69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A26F-C49B-42EC-B32C-D3555B7F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FAD-E447-4041-B881-BC5EC789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0992-1906-4032-AD3E-8CF2ADF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CFF7-3AE0-4DC6-8069-2D8540C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94F7-3D16-4D45-A4CC-BAD9AFC4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6AD2-70A1-4C12-A95B-C4231D8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3B638-6B40-429A-8411-94A0B96F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70316-ECDF-43EA-B269-F736FFD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E8A2-3EC4-4669-A80D-D1140F6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7814-23E4-4601-A99F-1D840D3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32CA-1CFD-4207-9E92-A5F86BAA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EDB24-07AA-4245-BBD6-622589A4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C27-B359-447F-9966-D7C4CB7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11F5-1039-4F04-BF3B-44A67AA6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CB68-3298-4D37-9DE9-36919DCC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BFE4-12D3-485D-B734-20502A58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BE133-5BEB-4AE3-B070-0806CC7C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491B-4A09-41EA-B783-ECE3BECF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C459-14FB-461A-8F88-810B04E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74B4-D318-4EBB-A44C-A4D8609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FD4A-64EF-48A4-9F0E-210AB8E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94DB-AEBE-499F-9334-6FE62F2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2364-27F8-484A-B6B9-883BC91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20A-48A5-49AD-A65A-2D8189F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388C-31DF-4818-A152-BE18B61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5947-AC7C-427C-9070-5B212C60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B392-C37D-47AC-8988-BEAD8E3E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14AA-9F21-4E9A-A9A0-7DFA7DC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1DE04-E762-4F44-87F1-F136E7F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4E4F-0391-41A9-B226-BB2C96B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1D4D-E1A1-4681-80D4-6346B7F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E90B-0B2B-4F80-AA22-2F136518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91D2D-72C6-45B7-873C-A83CF86F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1C196-FA0E-4023-9681-78B5EF6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B2F-725B-4FE9-BD89-9240DD1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5279-6BEF-4F0A-86CD-583FB04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872B-465B-4FE2-9D83-55B369F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84A0-05B3-41D6-AFC9-E4B82DE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CDD6A-9B65-46CB-B065-84446012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CD9A-C6A0-49F3-A767-83040933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81DE9-CD0C-4122-BB51-BCD8A248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B67C-484D-4F91-94AD-9883E6F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8199D-BDDA-4AFE-8BD9-75FA4E8C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9F5F-9B69-44A5-8072-A0A494B3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BE9A-75A6-4417-93B8-313F37C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91E-E60B-4F5B-A31B-E5DD6A3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E87E-1271-45FA-BE71-2A6B5C58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0D41E-DE58-4D01-B55D-8296B4F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D1EC-C0FF-499B-87D5-D26727E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B7D6C-D4C3-416A-8E61-263918E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A676B-992E-4C67-B521-A53ED4C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A588-DA00-4994-ABC0-5528D23B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92245-193E-4E4B-8A7C-B8C4D56D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F5D73-7F06-4EAE-B00A-30B90A87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EF19-5515-4A79-80E8-8A4300F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D34C3-CD2C-4D85-AD09-1F831FDA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4688-089C-48F3-A211-B10C91E6F92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5958-3CEE-4A74-B353-690AE8B7471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C0F4-DE09-4D9F-9743-B8792C3E87A5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DA55-2656-4919-8B98-A1693861CCA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EE54-6C28-4231-91D5-BD2560DFA1DF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5A2-BF94-42EE-8105-1B53B06C72A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BFE1-39DA-409F-94EC-CB0081975B0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54AB-8A30-4C3C-8550-923ED0E2E01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6089-BDD4-47BB-BD47-C21F5842BBE7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DD00-4112-447B-9A25-3613E571DE5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9D31-0AAC-4A12-A56E-83C64628F5B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600F-B454-44F1-9B46-356BC757F22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DF7-BD0C-4203-BA01-74E666BDBDF3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5F5-C2CF-4E4D-B4AF-79DAC9EE42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1C4-225F-43DB-8C65-87584B3B261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4A4-F7BB-4DF8-92E1-F0C75A986BC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443C-9D76-416D-BF6A-D4D25409C34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C354-CD24-4DB9-9CF6-0D86411A1B1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8119-23E1-4A02-82AE-E6688615A2E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A367-C146-4DED-8838-86D2830EAB8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703960" y="191628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62c4"/>
                </a:solidFill>
                <a:latin typeface="Arial"/>
              </a:rPr>
              <a:t>PRESENTATION N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11960" y="3068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rm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13:44Z</dcterms:created>
  <dc:creator>Ric</dc:creator>
  <dc:description/>
  <dc:language>en-US</dc:language>
  <cp:lastModifiedBy>Mediac</cp:lastModifiedBy>
  <dcterms:modified xsi:type="dcterms:W3CDTF">2007-03-11T20:32:17Z</dcterms:modified>
  <cp:revision>10</cp:revision>
  <dc:subject/>
  <dc:title>PRESENTATION NAME</dc:title>
</cp:coreProperties>
</file>