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5ABF-0E31-4C95-9257-ABC0632A9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3F04-A0DA-46E0-80BD-231F1630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1DCF35-C6EE-4D94-9C26-8518D51A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2B1EE-E76A-40AF-BB46-609F9DB7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-92160" algn="ctr"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E3494A-B8D6-4363-8C77-B67EC99A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4D2A16-F3C2-4036-B605-DF4DDB72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11AFB-17F0-4040-A49B-C8C97032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308A3-763C-4ADA-B47A-18EADA28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C9208-97C8-441B-8086-AFB43811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11F06-DB41-4B5B-BBED-D067BF223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468532-D9D8-48E8-ABFA-DF1BD2B7E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A33C7B-9788-4D8A-B6A5-15741F766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C30A-BB35-4465-AFD8-4A96F5F6B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0" algn="ctr">
              <a:buNone/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6EE819-130A-4D94-96D1-41DAB938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FF60A-FB92-427A-8506-896DA7B3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B4BE8A-3479-4080-B6DD-33A23D7B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9DC97-6682-4A68-B419-77014594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-92160" algn="ctr"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DCE5C-4D62-4BC7-86F3-D77BAE88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0077DC-D478-45C6-A259-0A90245A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30FB9D-BA59-49CD-9571-6F698AF9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7E9724-B66C-4BF0-90B9-6E90ADC0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6EE78C-4614-42A9-B15C-C5C59448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F4BAD-636B-43A8-B2C9-86FD958A0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AFB7-2FC2-4423-86D4-0BE0B73D0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13C20-083A-4567-B154-E0BE7AB4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2971-9E00-4A26-A500-D8982EC4F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0" algn="ctr">
              <a:buNone/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E0FB-2509-47D2-9843-9B2ED336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09D0-BE57-44E1-AAFA-86DD25E5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1462-C32C-46E7-830F-F2D4F798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5FBA-B146-46FB-9D78-93C09306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-92160" algn="ctr"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E0B7-6BB0-4C09-A2B3-7293E96C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BCE3-7BD8-45CA-85E6-F9DC60E4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0" algn="ctr">
              <a:buNone/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C316-0DF7-4077-941D-61B63AD5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7D75-E6D5-44FE-BBC6-64FC2482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448D-5D8D-4DC2-AC5D-3B7895E0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19A0-4CBD-4F2A-8560-A3ACCF6A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7A8A-FCD7-4D30-BA56-9E23AA61D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6F58-9AD1-425E-A8D4-FF3AB6D8C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EBEB7-DE8F-4A9A-8253-F82D691A0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0" algn="ctr">
              <a:buNone/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EB236-4C12-45A0-BAA9-E36AD4C5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A7ECF-333B-4573-9EF0-4C7ED2D8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9EA42-E1BE-4368-9854-D66E08C8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E8AD3-6393-4722-A4B7-AB9716E6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C24B-8C55-45B5-9AEB-7D255035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-92160" algn="ctr"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338B0-A61D-4D7D-9BCE-1FEC950A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0560F-DF1E-494E-85C5-FDF53CA1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32221-B1F8-4089-B3B7-5F1F5231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EEFAB-D616-4F1E-B029-31629476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610C9-DFCF-479B-A045-ADA3835E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D6EB5-3BB1-402B-8B07-8719AC356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0C4B7-0E35-4049-9CEF-12ADDCBCB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ED544-CBF0-4F7E-B9B8-0C702B7FE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0" algn="ctr">
              <a:buNone/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08A3C-4886-4530-8675-3587C82C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5F2F6-A9EE-428F-A8E8-93A42025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05A4-0864-4830-A088-93A5674C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30EE3-D0ED-42D1-9EEB-6CAEE402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9B41F-DCAE-4683-966E-799CFDCD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-92160" algn="ctr"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228FF-8FCE-4ABE-AAC4-320C15B5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AE21E-8445-48E1-B8C8-14525D8A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25DC4-FE59-4539-A5B6-0B4653B4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38C2D-69B6-4BB8-91E7-5FAE4A91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ABA19-D996-4C1A-8E6D-5833596D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7BCC1-CE2F-43E1-88AA-BCBE9976C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83ABB-CED9-4773-BF47-04B35B439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1E7A7-C4A2-4560-B8A8-75B99DE79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97A0-F90E-4DE9-A368-83F631F1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0" algn="ctr">
              <a:buNone/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9DCB3-1FF3-4528-941A-4DAA5AF2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ABEB1-8AB3-4D01-8196-CF78FD03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B48D7-7669-4B4A-B232-E5DBED86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D9276-BEBA-4659-9802-4D97B20B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-92160" algn="ctr"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5B657-7919-413C-BCDC-70A6654B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2C1ED-C0C5-4B99-B2CA-9805DC49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8A13F-1825-4FB8-8C10-871AC81E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12FA5-60B1-45D4-98ED-BF9F5E04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E358B-9237-4E98-8E7A-9ED5380C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36934-3B09-4BD4-BC3E-9ECF39479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-92160" algn="ctr"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3DC2-1311-4883-9A70-4EAF753A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05277-9101-484B-900F-12D3DB82B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9AA92-0F65-4DBD-B510-D38B3F7C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0" algn="ctr">
              <a:buNone/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12C11-37F6-4A24-BABD-B6404CD7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B23F2-4BEB-44B9-B4EA-D7E03524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D29CE-F8E5-4C09-8D45-9E21460D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11F1E-5BB3-4F11-90C7-090D5FFB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-92160" algn="ctr"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F4F95-38D7-4D5D-A714-B883DE71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D5C7B-08E8-4FD0-B638-048DBE22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2E538-8C2E-4339-B43A-9277BBA5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AE29E-0153-457F-8C21-E1BC2A4C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F303-8DCB-47AE-A340-712FD6F5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83053-CE10-4F62-A1E7-14C1FD12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CA2A3-FD59-4DA7-84FB-C070BD7D7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AA0C7-49FB-4C1E-A0B5-34FF7780C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944F0-D4E3-4C42-8AD0-CEE4F9FCF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0" algn="ctr">
              <a:buNone/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82BB2-368F-4B1E-8F7D-20E254EA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4EF2A-69E1-41F6-964B-7180DA67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22647-E33D-436D-9EED-CF5B01BC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ED978-3547-4249-8BFC-5E2D3277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-92160" algn="ctr"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B4ED7-8B39-4C38-9803-3CC775E6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AE1F5-D7D3-41D5-B4D1-B4CAAB08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6CF1-8C5D-4933-943B-AB71801D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598A3-4897-4558-BBF2-AF2F2C1F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67703-3D71-4B64-BF19-8D78E6DE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3861E-169A-4A6A-987C-90ACD052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08536-2D41-4F92-8DE6-3B595E1AB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E6F34-5913-4093-B8E0-05B6C8051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48EBE-3E82-4EFF-9D9C-CB8302363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0" algn="ctr">
              <a:buNone/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6F404-6C6C-4962-98A2-031C0E67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A6426-16BD-4771-BF48-9020CA8F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AD18F-6125-4ED4-B445-91198F53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D5252-BB0B-406C-9FFD-E339805D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3E83-2D59-4222-8040-EC5B7D06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-92160" algn="ctr"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32891-E14B-444E-8E1D-DDB9998A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FE6F1-E921-4AB6-B83A-82AB80C2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38DB6-2762-4105-B2F1-946AE08F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4DB51-EB10-4B07-9605-AA199B8E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BD76F-A44A-40C2-ABCC-6F0BF187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C1755-AA9C-4A0D-8897-0D535A4FB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64A97-BF12-4AF8-AD87-739820548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3091B-6DE5-490A-B01F-7C337156B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0" algn="ctr">
              <a:buNone/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52579-187C-445B-9572-8CCD7269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030C7-134F-44AB-BAC8-C22542CF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ffb99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e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iangle rectangle 13"/>
          <p:cNvGrpSpPr/>
          <p:nvPr/>
        </p:nvGrpSpPr>
        <p:grpSpPr>
          <a:xfrm>
            <a:off x="-6480" y="5791320"/>
            <a:ext cx="3408480" cy="1085760"/>
            <a:chOff x="-6480" y="5791320"/>
            <a:chExt cx="3408480" cy="1085760"/>
          </a:xfrm>
        </p:grpSpPr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84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7560" cy="1103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575f6d"/>
                </a:solidFill>
                <a:latin typeface="Eras Medium ITC"/>
              </a:rPr>
              <a:t>Click to edit the title text format</a:t>
            </a: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e8637"/>
              </a:buClr>
              <a:buSzPct val="75000"/>
              <a:buFont typeface="Wingdings 3" charset="2"/>
              <a:buChar char="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1" marL="743040" indent="-285840">
              <a:buClr>
                <a:srgbClr val="fe8637"/>
              </a:buClr>
              <a:buFont typeface="Verdana"/>
              <a:buChar char="◦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2" marL="11430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3" marL="16002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4" marL="20574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5" marL="2057400" indent="-228600">
              <a:buClr>
                <a:srgbClr val="000000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6" marL="2057400" indent="-228600">
              <a:buClr>
                <a:srgbClr val="000000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Medium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89CB-7B9E-4291-A351-6155B0CF9CB6}" type="datetime2">
              <a:rPr b="0" lang="en-US" sz="1000" spc="-1" strike="noStrike">
                <a:solidFill>
                  <a:srgbClr val="000000"/>
                </a:solidFill>
                <a:latin typeface="Eras Medium ITC"/>
              </a:rPr>
              <a:t>Thursday, 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Medium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B8A2-8055-41D4-88EA-A50E6CEA20B6}" type="slidenum">
              <a:rPr b="0" lang="en-US" sz="1000" spc="-1" strike="noStrike">
                <a:solidFill>
                  <a:srgbClr val="000000"/>
                </a:solidFill>
                <a:latin typeface="Eras Medium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fff39d"/>
                </a:solidFill>
                <a:latin typeface="Eras Medium ITC"/>
              </a:rPr>
              <a:t>Click to edit the title text format</a:t>
            </a:r>
            <a:endParaRPr b="1" lang="en-US" sz="4800" spc="-1" strike="noStrike">
              <a:solidFill>
                <a:srgbClr val="fff39d"/>
              </a:solidFill>
              <a:latin typeface="Eras Medium IT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e8637"/>
              </a:buClr>
              <a:buSzPct val="75000"/>
              <a:buFont typeface="Wingdings 3" charset="2"/>
              <a:buChar char="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1" marL="743040" indent="-285840">
              <a:buClr>
                <a:srgbClr val="fe8637"/>
              </a:buClr>
              <a:buFont typeface="Verdana"/>
              <a:buChar char="◦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2" marL="11430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3" marL="16002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4" marL="20574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5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6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417" name="Forme 6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ffb99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orme 7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Triangle rectangle 10"/>
          <p:cNvGrpSpPr/>
          <p:nvPr/>
        </p:nvGrpSpPr>
        <p:grpSpPr>
          <a:xfrm>
            <a:off x="-6480" y="5791320"/>
            <a:ext cx="3408480" cy="1085760"/>
            <a:chOff x="-6480" y="5791320"/>
            <a:chExt cx="3408480" cy="1085760"/>
          </a:xfrm>
        </p:grpSpPr>
        <p:pic>
          <p:nvPicPr>
            <p:cNvPr id="420" name="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84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2" name="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7560" cy="1103400"/>
          </a:xfrm>
          <a:prstGeom prst="rect">
            <a:avLst/>
          </a:prstGeom>
          <a:ln w="0">
            <a:noFill/>
          </a:ln>
        </p:spPr>
      </p:pic>
      <p:sp>
        <p:nvSpPr>
          <p:cNvPr id="423" name="Chevron 12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f6516"/>
              </a:gs>
              <a:gs pos="100000">
                <a:srgbClr val="ffa579"/>
              </a:gs>
            </a:gsLst>
            <a:lin ang="16200000"/>
          </a:gradFill>
          <a:ln cap="rnd" w="3240">
            <a:solidFill>
              <a:srgbClr val="bb6126"/>
            </a:solidFill>
            <a:miter/>
          </a:ln>
          <a:effectLst>
            <a:outerShdw dist="153753" dir="27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Chevron 13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f6516"/>
              </a:gs>
              <a:gs pos="100000">
                <a:srgbClr val="ffa579"/>
              </a:gs>
            </a:gsLst>
            <a:lin ang="16200000"/>
          </a:gradFill>
          <a:ln cap="rnd" w="3240">
            <a:solidFill>
              <a:srgbClr val="bb6126"/>
            </a:solidFill>
            <a:miter/>
          </a:ln>
          <a:effectLst>
            <a:outerShdw dist="153753" dir="27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ras Medium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6F8E-C695-4CA7-AF00-C5F1426EA795}" type="datetime2">
              <a:rPr b="0" lang="en-US" sz="1000" spc="-1" strike="noStrike">
                <a:solidFill>
                  <a:srgbClr val="ffffff"/>
                </a:solidFill>
                <a:latin typeface="Eras Medium ITC"/>
              </a:rPr>
              <a:t>Thursday, 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ras Medium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678E-A1CC-45B5-BB08-E1B4E0BEE7B0}" type="slidenum">
              <a:rPr b="0" lang="en-US" sz="1000" spc="-1" strike="noStrike">
                <a:solidFill>
                  <a:srgbClr val="ffffff"/>
                </a:solidFill>
                <a:latin typeface="Eras Medium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575f6d"/>
                </a:solidFill>
                <a:latin typeface="Eras Medium ITC"/>
              </a:rPr>
              <a:t>Click to edit the title text format</a:t>
            </a: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e8637"/>
              </a:buClr>
              <a:buSzPct val="75000"/>
              <a:buFont typeface="Wingdings 3" charset="2"/>
              <a:buChar char="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1" marL="743040" indent="-285840">
              <a:buClr>
                <a:srgbClr val="fe8637"/>
              </a:buClr>
              <a:buFont typeface="Verdana"/>
              <a:buChar char="◦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2" marL="11430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3" marL="16002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4" marL="20574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5" marL="2057400" indent="-228600">
              <a:buClr>
                <a:srgbClr val="000000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6" marL="2057400" indent="-228600">
              <a:buClr>
                <a:srgbClr val="000000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9" name="Triangle rectangle 6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cc4800"/>
              </a:gs>
              <a:gs pos="50000">
                <a:srgbClr val="ff8b41"/>
              </a:gs>
              <a:gs pos="100000">
                <a:srgbClr val="cc48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e 7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1" name="Forme 10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ffb99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orme 11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Forme 12"/>
            <p:cNvGrpSpPr/>
            <p:nvPr/>
          </p:nvGrpSpPr>
          <p:grpSpPr>
            <a:xfrm>
              <a:off x="8640" y="4998240"/>
              <a:ext cx="9129240" cy="1866240"/>
              <a:chOff x="8640" y="4998240"/>
              <a:chExt cx="9129240" cy="1866240"/>
            </a:xfrm>
          </p:grpSpPr>
          <p:pic>
            <p:nvPicPr>
              <p:cNvPr id="5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240"/>
                <a:ext cx="912924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864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Medium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821C-8CB0-4F38-AF13-6877CDA68756}" type="datetime2">
              <a:rPr b="0" lang="en-US" sz="1000" spc="-1" strike="noStrike">
                <a:solidFill>
                  <a:srgbClr val="000000"/>
                </a:solidFill>
                <a:latin typeface="Eras Medium ITC"/>
              </a:rPr>
              <a:t>Thursday, 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ras Medium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9BED-CD26-488F-BE09-98D8BBB88231}" type="slidenum">
              <a:rPr b="0" lang="en-US" sz="1000" spc="-1" strike="noStrike">
                <a:solidFill>
                  <a:srgbClr val="ffffff"/>
                </a:solidFill>
                <a:latin typeface="Eras Medium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e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ffb99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rme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iangle rectangle 13"/>
          <p:cNvGrpSpPr/>
          <p:nvPr/>
        </p:nvGrpSpPr>
        <p:grpSpPr>
          <a:xfrm>
            <a:off x="-6480" y="5791320"/>
            <a:ext cx="3408480" cy="1085760"/>
            <a:chOff x="-6480" y="5791320"/>
            <a:chExt cx="3408480" cy="1085760"/>
          </a:xfrm>
        </p:grpSpPr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84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7560" cy="11034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575f6d"/>
                </a:solidFill>
                <a:latin typeface="Eras Medium ITC"/>
              </a:rPr>
              <a:t>Click to edit the title text format</a:t>
            </a: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e8637"/>
              </a:buClr>
              <a:buSzPct val="75000"/>
              <a:buFont typeface="Wingdings 3" charset="2"/>
              <a:buChar char="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1" marL="743040" indent="-285840">
              <a:buClr>
                <a:srgbClr val="fe8637"/>
              </a:buClr>
              <a:buFont typeface="Verdana"/>
              <a:buChar char="◦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2" marL="11430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3" marL="16002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4" marL="20574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5" marL="2057400" indent="-228600">
              <a:buClr>
                <a:srgbClr val="000000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6" marL="2057400" indent="-228600">
              <a:buClr>
                <a:srgbClr val="000000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Medium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193C-F3FE-42CD-8F77-53A2F0305B7D}" type="datetime2">
              <a:rPr b="0" lang="en-US" sz="1000" spc="-1" strike="noStrike">
                <a:solidFill>
                  <a:srgbClr val="000000"/>
                </a:solidFill>
                <a:latin typeface="Eras Medium ITC"/>
              </a:rPr>
              <a:t>Thursday, 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Medium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8251-F94E-43E1-A160-0DDB55E7B832}" type="slidenum">
              <a:rPr b="0" lang="en-US" sz="1000" spc="-1" strike="noStrike">
                <a:solidFill>
                  <a:srgbClr val="000000"/>
                </a:solidFill>
                <a:latin typeface="Eras Medium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rme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ffb99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rme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Triangle rectangle 13"/>
          <p:cNvGrpSpPr/>
          <p:nvPr/>
        </p:nvGrpSpPr>
        <p:grpSpPr>
          <a:xfrm>
            <a:off x="-6480" y="5791320"/>
            <a:ext cx="3408480" cy="1085760"/>
            <a:chOff x="-6480" y="5791320"/>
            <a:chExt cx="3408480" cy="10857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84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7560" cy="11034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fff39d"/>
                </a:solidFill>
                <a:latin typeface="Eras Medium ITC"/>
              </a:rPr>
              <a:t>Click to edit the title text format</a:t>
            </a:r>
            <a:endParaRPr b="1" lang="en-US" sz="4800" spc="-1" strike="noStrike">
              <a:solidFill>
                <a:srgbClr val="fff39d"/>
              </a:solidFill>
              <a:latin typeface="Eras Medium IT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e8637"/>
              </a:buClr>
              <a:buSzPct val="75000"/>
              <a:buFont typeface="Wingdings 3" charset="2"/>
              <a:buChar char="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1" marL="743040" indent="-285840">
              <a:buClr>
                <a:srgbClr val="fe8637"/>
              </a:buClr>
              <a:buFont typeface="Verdana"/>
              <a:buChar char="◦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2" marL="11430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3" marL="16002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4" marL="20574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5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6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151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f6516"/>
              </a:gs>
              <a:gs pos="100000">
                <a:srgbClr val="ffa579"/>
              </a:gs>
            </a:gsLst>
            <a:lin ang="16200000"/>
          </a:gradFill>
          <a:ln cap="rnd" w="3240">
            <a:solidFill>
              <a:srgbClr val="bb6126"/>
            </a:solidFill>
            <a:miter/>
          </a:ln>
          <a:effectLst>
            <a:outerShdw dist="153753" dir="27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f6516"/>
              </a:gs>
              <a:gs pos="100000">
                <a:srgbClr val="ffa579"/>
              </a:gs>
            </a:gsLst>
            <a:lin ang="16200000"/>
          </a:gradFill>
          <a:ln cap="rnd" w="3240">
            <a:solidFill>
              <a:srgbClr val="bb6126"/>
            </a:solidFill>
            <a:miter/>
          </a:ln>
          <a:effectLst>
            <a:outerShdw dist="153753" dir="27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Medium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CF4B-2549-4CAC-BDE9-7F88B96C3E4A}" type="datetime2">
              <a:rPr b="0" lang="en-US" sz="1000" spc="-1" strike="noStrike">
                <a:solidFill>
                  <a:srgbClr val="000000"/>
                </a:solidFill>
                <a:latin typeface="Eras Medium ITC"/>
              </a:rPr>
              <a:t>Thursday, 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Medium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8AB8-A407-4CF3-A542-F1C553D218FB}" type="slidenum">
              <a:rPr b="0" lang="en-US" sz="1000" spc="-1" strike="noStrike">
                <a:solidFill>
                  <a:srgbClr val="000000"/>
                </a:solidFill>
                <a:latin typeface="Eras Medium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rme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ffb99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orme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Triangle rectangle 13"/>
          <p:cNvGrpSpPr/>
          <p:nvPr/>
        </p:nvGrpSpPr>
        <p:grpSpPr>
          <a:xfrm>
            <a:off x="-6480" y="5791320"/>
            <a:ext cx="3408480" cy="1085760"/>
            <a:chOff x="-6480" y="5791320"/>
            <a:chExt cx="3408480" cy="1085760"/>
          </a:xfrm>
        </p:grpSpPr>
        <p:pic>
          <p:nvPicPr>
            <p:cNvPr id="195" name="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84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7560" cy="11034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fff39d"/>
                </a:solidFill>
                <a:latin typeface="Eras Medium ITC"/>
              </a:rPr>
              <a:t>Click to edit the title text format</a:t>
            </a:r>
            <a:endParaRPr b="1" lang="en-US" sz="4800" spc="-1" strike="noStrike">
              <a:solidFill>
                <a:srgbClr val="fff39d"/>
              </a:solidFill>
              <a:latin typeface="Eras Medium IT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e8637"/>
              </a:buClr>
              <a:buSzPct val="75000"/>
              <a:buFont typeface="Wingdings 3" charset="2"/>
              <a:buChar char="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1" marL="743040" indent="-285840">
              <a:buClr>
                <a:srgbClr val="fe8637"/>
              </a:buClr>
              <a:buFont typeface="Verdana"/>
              <a:buChar char="◦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2" marL="11430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3" marL="16002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4" marL="20574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5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6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Medium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1A4B-B508-4070-80DA-9DF128D3C214}" type="datetime2">
              <a:rPr b="0" lang="en-US" sz="1000" spc="-1" strike="noStrike">
                <a:solidFill>
                  <a:srgbClr val="000000"/>
                </a:solidFill>
                <a:latin typeface="Eras Medium ITC"/>
              </a:rPr>
              <a:t>Thursday, 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Medium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109E-5F2F-4ABB-BE55-786285BA6C5B}" type="slidenum">
              <a:rPr b="0" lang="en-US" sz="1000" spc="-1" strike="noStrike">
                <a:solidFill>
                  <a:srgbClr val="000000"/>
                </a:solidFill>
                <a:latin typeface="Eras Medium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575f6d"/>
                </a:solidFill>
                <a:latin typeface="Eras Medium ITC"/>
              </a:rPr>
              <a:t>Click to edit the title text format</a:t>
            </a: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e8637"/>
              </a:buClr>
              <a:buSzPct val="75000"/>
              <a:buFont typeface="Wingdings 3" charset="2"/>
              <a:buChar char="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1" marL="743040" indent="-285840">
              <a:buClr>
                <a:srgbClr val="fe8637"/>
              </a:buClr>
              <a:buFont typeface="Verdana"/>
              <a:buChar char="◦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2" marL="11430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3" marL="16002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4" marL="20574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5" marL="2057400" indent="-228600">
              <a:buClr>
                <a:srgbClr val="000000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6" marL="2057400" indent="-228600">
              <a:buClr>
                <a:srgbClr val="000000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Medium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B346-EB28-4F81-85B5-4121A5390C90}" type="datetime2">
              <a:rPr b="0" lang="en-US" sz="1000" spc="-1" strike="noStrike">
                <a:solidFill>
                  <a:srgbClr val="000000"/>
                </a:solidFill>
                <a:latin typeface="Eras Medium ITC"/>
              </a:rPr>
              <a:t>Thursday, 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Medium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5555-4BCD-4EF4-9ED1-862B77D355E3}" type="slidenum">
              <a:rPr b="0" lang="en-US" sz="1000" spc="-1" strike="noStrike">
                <a:solidFill>
                  <a:srgbClr val="000000"/>
                </a:solidFill>
                <a:latin typeface="Eras Medium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rme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ffb99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orme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Triangle rectangle 13"/>
          <p:cNvGrpSpPr/>
          <p:nvPr/>
        </p:nvGrpSpPr>
        <p:grpSpPr>
          <a:xfrm>
            <a:off x="-6480" y="5791320"/>
            <a:ext cx="3408480" cy="1085760"/>
            <a:chOff x="-6480" y="5791320"/>
            <a:chExt cx="3408480" cy="1085760"/>
          </a:xfrm>
        </p:grpSpPr>
        <p:pic>
          <p:nvPicPr>
            <p:cNvPr id="283" name="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84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7560" cy="11034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fff39d"/>
                </a:solidFill>
                <a:latin typeface="Eras Medium ITC"/>
              </a:rPr>
              <a:t>Click to edit the title text format</a:t>
            </a:r>
            <a:endParaRPr b="1" lang="en-US" sz="4800" spc="-1" strike="noStrike">
              <a:solidFill>
                <a:srgbClr val="fff39d"/>
              </a:solidFill>
              <a:latin typeface="Eras Medium IT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e8637"/>
              </a:buClr>
              <a:buSzPct val="75000"/>
              <a:buFont typeface="Wingdings 3" charset="2"/>
              <a:buChar char="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1" marL="743040" indent="-285840">
              <a:buClr>
                <a:srgbClr val="fe8637"/>
              </a:buClr>
              <a:buFont typeface="Verdana"/>
              <a:buChar char="◦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2" marL="11430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3" marL="16002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4" marL="20574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5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6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Medium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5E75-C217-4292-A134-E286E29A9385}" type="datetime2">
              <a:rPr b="0" lang="en-US" sz="1000" spc="-1" strike="noStrike">
                <a:solidFill>
                  <a:srgbClr val="000000"/>
                </a:solidFill>
                <a:latin typeface="Eras Medium ITC"/>
              </a:rPr>
              <a:t>Thursday, 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Medium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D245-3B2F-44A6-87A0-2ABC08BCFD55}" type="slidenum">
              <a:rPr b="0" lang="en-US" sz="1000" spc="-1" strike="noStrike">
                <a:solidFill>
                  <a:srgbClr val="000000"/>
                </a:solidFill>
                <a:latin typeface="Eras Medium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rme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ffb99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orme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Triangle rectangle 13"/>
          <p:cNvGrpSpPr/>
          <p:nvPr/>
        </p:nvGrpSpPr>
        <p:grpSpPr>
          <a:xfrm>
            <a:off x="-6480" y="5791320"/>
            <a:ext cx="3408480" cy="1085760"/>
            <a:chOff x="-6480" y="5791320"/>
            <a:chExt cx="3408480" cy="1085760"/>
          </a:xfrm>
        </p:grpSpPr>
        <p:pic>
          <p:nvPicPr>
            <p:cNvPr id="330" name="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84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7560" cy="110340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575f6d"/>
                </a:solidFill>
                <a:latin typeface="Eras Medium ITC"/>
              </a:rPr>
              <a:t>Click to edit the title text format</a:t>
            </a: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e8637"/>
              </a:buClr>
              <a:buSzPct val="75000"/>
              <a:buFont typeface="Wingdings 3" charset="2"/>
              <a:buChar char="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1" marL="743040" indent="-285840">
              <a:buClr>
                <a:srgbClr val="fe8637"/>
              </a:buClr>
              <a:buFont typeface="Verdana"/>
              <a:buChar char="◦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2" marL="11430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3" marL="16002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4" marL="20574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5" marL="2057400" indent="-228600">
              <a:buClr>
                <a:srgbClr val="000000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6" marL="2057400" indent="-228600">
              <a:buClr>
                <a:srgbClr val="000000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Medium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C75F-59A0-4486-9438-9392A0482BF5}" type="datetime2">
              <a:rPr b="0" lang="en-US" sz="1000" spc="-1" strike="noStrike">
                <a:solidFill>
                  <a:srgbClr val="000000"/>
                </a:solidFill>
                <a:latin typeface="Eras Medium ITC"/>
              </a:rPr>
              <a:t>Thursday, 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Medium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4061-0766-458E-BBCF-3A67533EAB5B}" type="slidenum">
              <a:rPr b="0" lang="en-US" sz="1000" spc="-1" strike="noStrike">
                <a:solidFill>
                  <a:srgbClr val="000000"/>
                </a:solidFill>
                <a:latin typeface="Eras Medium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575f6d"/>
                </a:solidFill>
                <a:latin typeface="Eras Medium ITC"/>
              </a:rPr>
              <a:t>Click to edit the title text format</a:t>
            </a: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e8637"/>
              </a:buClr>
              <a:buSzPct val="75000"/>
              <a:buFont typeface="Wingdings 3" charset="2"/>
              <a:buChar char="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1" marL="743040" indent="-285840">
              <a:buClr>
                <a:srgbClr val="fe8637"/>
              </a:buClr>
              <a:buFont typeface="Verdana"/>
              <a:buChar char="◦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2" marL="11430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3" marL="16002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4" marL="20574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5" marL="2057400" indent="-228600">
              <a:buClr>
                <a:srgbClr val="000000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6" marL="2057400" indent="-228600">
              <a:buClr>
                <a:srgbClr val="000000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Medium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9226-4459-4FD8-9FDF-F5E414C1DA9F}" type="datetime2">
              <a:rPr b="0" lang="en-US" sz="1000" spc="-1" strike="noStrike">
                <a:solidFill>
                  <a:srgbClr val="000000"/>
                </a:solidFill>
                <a:latin typeface="Eras Medium ITC"/>
              </a:rPr>
              <a:t>Thursday, 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Medium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5B57-5B20-4709-AD84-254FB0990EFA}" type="slidenum">
              <a:rPr b="0" lang="en-US" sz="1000" spc="-1" strike="noStrike">
                <a:solidFill>
                  <a:srgbClr val="000000"/>
                </a:solidFill>
                <a:latin typeface="Eras Medium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ZoneTexte 3"/>
          <p:cNvSpPr/>
          <p:nvPr/>
        </p:nvSpPr>
        <p:spPr>
          <a:xfrm>
            <a:off x="500040" y="5497560"/>
            <a:ext cx="48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ff"/>
                </a:solidFill>
                <a:latin typeface="Calibri"/>
              </a:rPr>
              <a:t>Presentation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ZoneTexte 2"/>
          <p:cNvSpPr/>
          <p:nvPr/>
        </p:nvSpPr>
        <p:spPr>
          <a:xfrm>
            <a:off x="500040" y="614376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fr-CA" sz="4800" spc="-1" strike="noStrike">
                <a:solidFill>
                  <a:srgbClr val="575f6d"/>
                </a:solidFill>
                <a:latin typeface="Eras Medium ITC"/>
              </a:rPr>
              <a:t>Title</a:t>
            </a: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e8637"/>
              </a:buClr>
              <a:buSzPct val="75000"/>
              <a:buFont typeface="Wingdings 3" charset="2"/>
              <a:buChar char=""/>
            </a:pPr>
            <a:r>
              <a:rPr b="0" lang="fr-CA" sz="3100" spc="-1" strike="noStrike">
                <a:solidFill>
                  <a:srgbClr val="000000"/>
                </a:solidFill>
                <a:latin typeface="Eras Medium ITC"/>
              </a:rPr>
              <a:t>Content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8T14:25:02Z</dcterms:created>
  <dc:creator>Ric</dc:creator>
  <dc:description/>
  <dc:language>en-US</dc:language>
  <cp:lastModifiedBy>Mediac</cp:lastModifiedBy>
  <dcterms:modified xsi:type="dcterms:W3CDTF">2007-05-17T21:31:27Z</dcterms:modified>
  <cp:revision>86</cp:revision>
  <dc:subject/>
  <dc:title>Diapositive 1</dc:title>
</cp:coreProperties>
</file>