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175-F845-4E1E-90C1-E22E8376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114-A522-49A6-9F41-3D937B37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30C-CC5F-418E-B9E9-C2C9E989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421-76AD-43E3-8F32-954FA65F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EA57-5FD1-426A-BA70-BB48C9BD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C110-A6E1-4ECE-AF15-BA4A4EBB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17E9-592A-4371-A39D-0E27E68E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3F72-5E18-4369-ADAA-D43CD0CA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86A1-4953-465F-9F29-32DF9DF3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6BBC-C828-4C0A-B34B-AC846452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457E-D702-46A4-BE89-E7AD5834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05D-AEE6-45F1-B486-7F24A16B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578F-AA86-4AFB-9C00-A39626C2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F43A-E30D-4B59-96C1-CFA6CAB0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6E90-7A5F-409D-94D9-9D919A8A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C29A-DD7B-4B28-A18E-29851F4D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9406-0486-4A30-A18D-4C23D010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5C9-E0F9-4F01-89A5-F932DABE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02F-1391-4C93-8DDF-F12EBB96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C24-7D95-490A-BD4A-267287D9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F49-BCA3-4C17-BAEA-E945C8E7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C17-C4EC-49EE-AF9E-DF1E242A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8F8-FB49-45A8-9198-8BC74F23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7D9-6195-4EDD-91FF-BEB38514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D492-D149-4D1B-8AE2-F0C45F85C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2428-9983-4662-B427-73C016B31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Example Compan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6000" y="5457960"/>
            <a:ext cx="64008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Bullet Point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templates are for personal use only and must not be distributed, sold or displayed on the web by anyone other than Presentation Help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of a char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92360" y="1557360"/>
          <a:ext cx="728352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557360"/>
                    <a:ext cx="72835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icture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21160" y="1697040"/>
            <a:ext cx="2374920" cy="4002120"/>
          </a:xfrm>
          <a:prstGeom prst="rect">
            <a:avLst/>
          </a:prstGeom>
          <a:ln w="38160">
            <a:solidFill>
              <a:srgbClr val="1795b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02:15Z</dcterms:created>
  <dc:creator>Paul</dc:creator>
  <dc:description/>
  <dc:language>en-US</dc:language>
  <cp:lastModifiedBy>Jonty Pearce</cp:lastModifiedBy>
  <dcterms:modified xsi:type="dcterms:W3CDTF">2005-03-11T15:20:36Z</dcterms:modified>
  <cp:revision>4</cp:revision>
  <dc:subject/>
  <dc:title>Diapozitivul 1</dc:title>
</cp:coreProperties>
</file>