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98C-413E-45ED-A9F7-37334C89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14B-AD44-4B76-90D2-A3B83AC0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029-7A45-4C07-AC30-B8CA87FD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8B3-2E01-437A-AA55-893FD636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FDD-F620-4B5D-BF47-B64E7FAE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C60-47C5-4259-AE40-CE058E7D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AF8-F28E-41BC-B25B-43C5154C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F1A-72C3-4BD3-88AE-E6361818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E50-6205-4CB9-ABE2-FF435ADA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E27-7D3A-4CD7-94F9-E964FE32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68B-1314-4F1B-B72F-295F6CDD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8DC-7F14-4E5E-BB9C-4C6DFBB9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9684-660B-4474-A53C-B57221DE0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647856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6224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11:22Z</dcterms:created>
  <dc:creator>Mediac</dc:creator>
  <dc:description/>
  <dc:language>en-US</dc:language>
  <cp:lastModifiedBy>Mediac</cp:lastModifiedBy>
  <dcterms:modified xsi:type="dcterms:W3CDTF">2007-05-14T17:12:48Z</dcterms:modified>
  <cp:revision>2</cp:revision>
  <dc:subject/>
  <dc:title>PRESENTATION  NAME</dc:title>
</cp:coreProperties>
</file>