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679-BBCE-4473-815E-F60F7483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4FE-63AE-4D25-A8AD-0AAACFBB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64F-4C80-4773-AF66-C738349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3E9-C91A-4175-AD8D-CA0C6A47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1C9-C7B3-4432-98F7-0C0AEE7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53C-4AE2-4CD0-BF40-D39B7B8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6BD-29EA-48CD-B034-28D1F15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F04-58BA-4DBC-8883-8193BBE1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E9D-98EF-4E50-B300-55EA183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175-84D7-4147-AA74-6C7987B5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D91-D982-4E72-9B24-784276C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F96-4D22-43EC-A5C6-AC16B2E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AA36-D3DB-4436-A19C-CFCB553A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5ab5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1197000"/>
            <a:ext cx="3673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ab5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Mediac</dc:creator>
  <dc:description/>
  <dc:language>en-US</dc:language>
  <cp:lastModifiedBy>Mediac</cp:lastModifiedBy>
  <dcterms:modified xsi:type="dcterms:W3CDTF">2007-05-18T18:32:47Z</dcterms:modified>
  <cp:revision>2</cp:revision>
  <dc:subject/>
  <dc:title>PRESENTATION  NAME</dc:title>
</cp:coreProperties>
</file>