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BD4-BA46-4152-8222-C94B968B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9B3-53F4-4175-BEC4-3489822A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BB1-BB7C-45BB-8AF1-382DD895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736-39FD-4A39-9297-85B5C8AB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F8F-6EB3-4588-8F72-E3C72069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911-6084-443E-9572-2D03ADC2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083-8158-4E66-8435-5ECC34C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9EF-4520-4058-83BE-B5736B7C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B9D-D18B-4834-B678-966C335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5E9-0F66-4260-91AE-F4DB58C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D1E-F192-4E7E-9866-1D10CB28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BC3-12D3-452B-A5B4-BFB29E4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EE20-971D-46B1-8661-78ED0BB6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960" y="40273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677840"/>
            <a:ext cx="52880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763200"/>
            <a:ext cx="74901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490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26:39Z</dcterms:created>
  <dc:creator>Mediac</dc:creator>
  <dc:description/>
  <dc:language>en-US</dc:language>
  <cp:lastModifiedBy>Mediac</cp:lastModifiedBy>
  <dcterms:modified xsi:type="dcterms:W3CDTF">2006-12-20T22:29:52Z</dcterms:modified>
  <cp:revision>3</cp:revision>
  <dc:subject/>
  <dc:title>PRESENTATION  NAME</dc:title>
</cp:coreProperties>
</file>