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DF2-ED27-4BDD-A82D-1E1A82C5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522-CF9D-46E4-A6CB-66544708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63E2C-6C7E-4D3B-B35E-7BA1CBC1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B3025-4813-41A3-BB87-264926F3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38489-72B9-41AE-A03E-E86B518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3872C-FB84-4C0E-8261-92B6D34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E5696-9A77-4340-B696-E00EF412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6D7F7-8FA3-4685-88C2-9550701B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66A3A-30B6-4323-B460-84D392A8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448E7-F2BA-446D-B4E3-C9E735F9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F41C3-3302-41FF-92EA-18A140B3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92DAC-9486-4936-A40F-75EC26E7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38F-8227-4F6B-9776-F0D85126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D7F22-3913-4EA9-9B97-E4BCE0E9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FD56B-472B-49F0-BE99-FDD3ECC4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24469-EE3D-4379-9817-6135C9F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16EB2-DC03-4652-A7A8-5BA2F9D5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E6AB4-CC02-4B7A-BB7B-31437551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869B5-D694-4485-97DA-D31ADC72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A067D-4055-462C-9ADC-34180143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5CA49-3DE8-4987-883A-C2086BF1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AC355-B8F5-4C9B-8ADF-ABF93624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D859F-C3EF-41C7-9EE4-928E79A3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04E-ED26-4006-AE46-7D480606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07913-672E-4C0A-9952-5D1B3B99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ACEA-8B0C-450F-AFCC-C94134DB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86B2-421F-4924-84B0-90C076FE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68BA-C43F-4C19-8ED9-DDC81971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2736-0D4F-4989-B001-F1C3387D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658E-07FF-4F77-98E1-0D1AEBF0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7232-3B18-46C9-B46C-3802AA91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E345-51D5-4F34-A26C-E94A32B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08B-7236-440B-A444-BD09130A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5597-35D9-4B54-8FC7-AF521D80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D408-FF73-411A-9B24-EBCA7F44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0D0B-1F94-4502-9DDD-AE0F1743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0F82-72DD-45E6-A25B-2E5D7FC6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1758-DD26-40E7-96D6-0C32AF6C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624D-85BD-4254-9D0F-54F5304F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AC5E-DA0B-4F6B-947F-E7CB3CD6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DD2D-697E-4891-9826-8AEE742E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B00C-0613-4D32-9F09-17136E7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AB9BC-AC39-4B22-8DF9-1BD8A2CC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9D5-5D95-4D5D-BAB1-C40A5EE8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1665-201C-4554-84CF-4DD383AC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6BE03-6BBB-40AD-A033-E46A00C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E22C-24B6-47AE-8CD4-A3DAE8F3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AAAA-26C7-4448-8813-7CAF068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1ED1-25F2-41EF-8E5F-00215414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426D-CAC2-402E-8EA2-B91698C7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0FB45-4565-4F4D-9F67-89C4AA76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9A05-F39F-4383-BA4B-9F6FA089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BCE6-D2C3-4E4B-A3F8-9F74A563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138F-2F4A-4935-9796-73A80B2A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830-224F-40EE-8002-C4FEADA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BD76-4413-4E3C-9B78-6E5FE1DC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617B-EAB8-4B24-B576-423C3DE9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930D-5290-43A8-83B4-217CC057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E71B-BA1D-486B-A198-4C45CAB5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AA7A-784B-4010-82E9-77CE427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54A9-28C2-4C59-BFDA-1E18141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B199-52DB-4AAF-8F23-574E2E64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9EC27-A685-4EDD-B22F-5C106F34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5A964-32A1-40F0-9CC9-3E5E2DCE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593BA-A7DA-4BEA-A921-8C5B23AF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79B-B5DC-4DD1-83B2-518B10E9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A4F2-3310-48D6-B879-C8368277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1238B-C099-42FF-8628-3F060353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CC4B9-E1AF-49E7-A3DA-F75CE9F6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76AF-FFFC-49DD-B6DF-70CCEB50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86AB-DC6F-4BE3-8961-6F7ED40C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57905-5FE6-49A8-901C-AD58E14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28F4-B7AF-4131-B4E7-9B2C3E0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C41B-4698-4403-86F1-EDEC4F25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5BF2-B1EE-49F9-BA62-C019D517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C4835-3FDB-4871-995B-A86BB523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1E9-744B-4417-B6E4-8CFBD031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35102-4E8F-445A-B883-391B6B2F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1E6C8-3F3E-457B-9A12-544E654A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F1F7-1080-4117-91CC-0BD52F6A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69929-6BD7-47A1-BE61-45EEBBB1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CBCF4-000D-4981-BA93-04EEAE23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2A59B-9260-425C-AB1F-E470F433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E7FD-ED6B-4EC2-9879-CC7063D0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E1DA-534E-4BEA-98B2-83EB19C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459B-176D-4F36-B751-F080228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0CBCF-2973-426E-AB19-82CBC31A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F9E-0F05-4098-9798-FEA03BA1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C0A2B-F90A-464F-B3F9-4849951D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A8F5F-71FE-4EBC-8F23-1DBB6803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99363-A7CA-43DF-A666-8D7CD698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6736F-3789-4C66-9087-27AA394C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7DDA-BEDF-4F2B-86AD-66D09A9C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1E4F-5D13-4AFC-8606-A2F2FF27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A81AA-9ABB-488F-80FA-946C5FCF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79713-F9E6-4B21-B764-4D5E03AC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BCA4B-E1C5-4FA9-96DB-5531A26B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573E1-5BF3-4C90-B525-EB992F24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6BD-7339-47B6-BA95-65160CB6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B0021-FD16-4AE9-83A6-7FC7B41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79428-E734-48ED-A7C9-EBD89B40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B3B2D-9068-433E-A3C0-633DBCA3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26AF-466D-4A7A-A505-A50F7946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4254-0165-4CE0-A672-1E72AD23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BA9DF-BDF4-4505-8A7C-274D837A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8702-122F-423F-B76F-4BD3A4A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9029E-4CB2-49EC-A0F3-8E7D8D17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0118D-7955-415B-B370-3E13E8DF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F5769-3C49-4B27-9215-7193D311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0DF-1777-44B8-B1EF-17ACCB7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7FBE0-BBB4-400C-85F2-8CB21E85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1484-D928-4A7D-BD1C-9133BDDE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B81F-A3DC-4F43-996F-64501BF2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A7859-C4CC-4608-9FBC-BD943FE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09431-E3CA-4DBC-A09C-6F019A7A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32F2-56B5-44BA-90AB-665F5D9E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3240F-63CC-4D75-A002-6B830342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4A2F6-D8D3-4CC8-A201-F0CF25A8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18D44-BCC4-4988-8A8D-02B21DB7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2483A-BC4A-4A86-A6E0-F971BCA8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FA6F-BC57-45DA-B756-6589BB3C4344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5B71-2A39-4FC9-BB9A-28A5BFE904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4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EF18-A95D-40EC-8558-8B403B6DB24A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12E7-4914-4C0B-A7FD-0867903095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8A35-3B39-4375-8E35-8DED8EB06DF7}" type="datetime2">
              <a:rPr b="0" lang="en-US" sz="1200" spc="-1" strike="noStrike">
                <a:solidFill>
                  <a:srgbClr val="d1eaee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162-D948-4114-AFA4-A66AD4E278F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1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183A-2DB4-4895-B5BD-CD9333EAE46F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D4B7-037F-4A52-AA73-F6FB00B8ED9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20D-C003-4A8D-95CA-3F350554D34C}" type="datetime2">
              <a:rPr b="0" lang="en-US" sz="1200" spc="-1" strike="noStrike">
                <a:solidFill>
                  <a:srgbClr val="d1eaee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6C2B-698A-4804-A592-B3233CAECFB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2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9130-46C9-4B23-A64B-E9116BB70984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ED1B-065F-4E85-802C-4CE998453D1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2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1589-CBCD-47A7-AB73-3EC1EB701A17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3634-E2BF-4A66-83F0-DCEBF8810C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3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3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6FCE-725B-4CE6-A3A1-FA9F8CE0BA75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4FB9-6020-47F5-BB95-43673C5FB0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3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3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026F-D7F1-4318-AED6-BB606CD4AE9F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92D8-37AA-41DC-9F86-D1DDD3B96CD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4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4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17A6-0102-45B9-9B15-BAE55482BD7E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3D50-99C6-4061-B395-05DE5B77D3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14280" y="3428640"/>
            <a:ext cx="57340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Forme 2"/>
          <p:cNvSpPr/>
          <p:nvPr/>
        </p:nvSpPr>
        <p:spPr>
          <a:xfrm>
            <a:off x="1187280" y="2781360"/>
            <a:ext cx="6553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PRESENTATION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000" spc="-1" strike="noStrike">
                <a:solidFill>
                  <a:srgbClr val="04617b"/>
                </a:solidFill>
                <a:latin typeface="Calibri"/>
              </a:rPr>
              <a:t>Tit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onstantia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2:14:08Z</dcterms:created>
  <dc:creator>Ric</dc:creator>
  <dc:description/>
  <dc:language>en-US</dc:language>
  <cp:lastModifiedBy>Mediac</cp:lastModifiedBy>
  <dcterms:modified xsi:type="dcterms:W3CDTF">2007-05-11T19:49:22Z</dcterms:modified>
  <cp:revision>4</cp:revision>
  <dc:subject/>
  <dc:title>PRESENTATION  NAME</dc:title>
</cp:coreProperties>
</file>