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B6455-BCC2-4234-95BF-B2EBBFDD1E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00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4012200"/>
            <a:ext cx="800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737C1-8628-471B-97C0-CB919773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44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440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0982F-0EDB-43C9-BCAA-A324FCD4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9760" y="170028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5520" y="170028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401220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9760" y="401220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5520" y="401220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4E202-9167-43A6-8176-0F2A80EA40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D30CC-6182-4A3D-B34D-4BC34729D3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00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234B1-7424-4DB5-80F4-E7BDA196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ECF05-D0C1-4F76-954D-8CB650BC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440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26C4A-3254-42E7-A8BD-A85583DA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11E98-D5A9-4C6D-9299-9A3BAEFB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0DADF-34EC-4737-B347-0AC7BD65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440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00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C6D1B-90F5-464A-A26A-986F6775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606B8-EE7D-4D98-AD78-E378FF86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44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440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4EEB1-7057-4F25-9810-0C2142C3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44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000" y="4012200"/>
            <a:ext cx="800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01D97-C981-41EF-9ED3-B8D2E6A5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00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000" y="4012200"/>
            <a:ext cx="800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83F9D-BEC2-4752-AF04-04E39CA9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44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00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440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3A748-9FD3-4236-AC69-652164B8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9760" y="170028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5520" y="170028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000" y="401220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9760" y="401220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5520" y="401220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7617E-A797-43C2-A60D-2FE4107CA2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AD270-B6C6-48B7-8696-EFF61885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440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83F9D-02CB-44F3-8D5F-77A44D9D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EDE1A-73BE-427A-B023-243302A6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A8635-F47D-4C1C-BE69-D94E0E3E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440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FDEBF-F49C-48C9-BAB1-81A27BD2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44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440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AB7B8-00C4-44D9-A0D8-99EA571F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44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4012200"/>
            <a:ext cx="800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A20EE-E4B1-423D-B51D-39B43918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f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901"/>
              </a:spcBef>
              <a:buClr>
                <a:srgbClr val="ff7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901"/>
              </a:spcBef>
              <a:buClr>
                <a:srgbClr val="ff7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spcBef>
                <a:spcPts val="901"/>
              </a:spcBef>
              <a:buClr>
                <a:srgbClr val="ff7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1954440" indent="-21708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1954440" indent="-21708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924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7D8E-E639-48A3-AD27-726A2AEB15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732720" y="62596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e5e56"/>
                </a:solidFill>
                <a:latin typeface="Arial"/>
              </a:rPr>
              <a:t>your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7f00"/>
                </a:solidFill>
                <a:latin typeface="Arial"/>
              </a:rPr>
              <a:t>Click to edit the title text format</a:t>
            </a:r>
            <a:endParaRPr b="1" lang="en-US" sz="8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56840" y="62053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3995280" y="62053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2EDB-2747-437F-B096-264EA16819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32720" y="62596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e5e56"/>
                </a:solidFill>
                <a:latin typeface="Arial"/>
              </a:rPr>
              <a:t>your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lvl="1" marL="4021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04600" algn="ctr">
              <a:spcBef>
                <a:spcPts val="700"/>
              </a:spcBef>
              <a:buClr>
                <a:srgbClr val="ff7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206720" algn="ctr">
              <a:spcBef>
                <a:spcPts val="601"/>
              </a:spcBef>
              <a:buClr>
                <a:srgbClr val="ff7f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09200" algn="ctr">
              <a:spcBef>
                <a:spcPts val="601"/>
              </a:spcBef>
              <a:buClr>
                <a:srgbClr val="ff7f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092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092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ff7f00"/>
                </a:solidFill>
                <a:latin typeface="Arial"/>
              </a:rPr>
              <a:t>BOLD ORANGE</a:t>
            </a:r>
            <a:endParaRPr b="1" lang="en-US" sz="8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AND WHITE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7f00"/>
                </a:solidFill>
                <a:latin typeface="Arial"/>
              </a:rPr>
              <a:t>Example Bullet Point slide</a:t>
            </a: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se templates are for personal use only and must not be distributed, sold or displayed on the web by anyone other than Presentation Helper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7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b 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7f00"/>
                </a:solidFill>
                <a:latin typeface="Arial"/>
              </a:rPr>
              <a:t>Example of a chart</a:t>
            </a: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692360" y="2133720"/>
          <a:ext cx="6192720" cy="38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133720"/>
                    <a:ext cx="619272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7f00"/>
                </a:solidFill>
                <a:latin typeface="Arial"/>
              </a:rPr>
              <a:t>Picture slide</a:t>
            </a: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921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372360" y="2060640"/>
            <a:ext cx="2093760" cy="3529080"/>
          </a:xfrm>
          <a:prstGeom prst="rect">
            <a:avLst/>
          </a:prstGeom>
          <a:ln w="38160">
            <a:solidFill>
              <a:srgbClr val="ff7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7f00"/>
                </a:solidFill>
                <a:latin typeface="Arial"/>
              </a:rPr>
              <a:t>Examples of default styles</a:t>
            </a: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9272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xt and lines are like 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e9a021"/>
                </a:solidFill>
                <a:uFillTx/>
                <a:latin typeface="Arial"/>
              </a:rPr>
              <a:t>Hyperlinks like 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e2790f"/>
                </a:solidFill>
                <a:uFillTx/>
                <a:latin typeface="Arial"/>
              </a:rPr>
              <a:t>Visited hyperlinks like 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651640" y="2637000"/>
          <a:ext cx="3294000" cy="1655640"/>
        </p:xfrm>
        <a:graphic>
          <a:graphicData uri="http://schemas.openxmlformats.org/drawingml/2006/table">
            <a:tbl>
              <a:tblPr/>
              <a:tblGrid>
                <a:gridCol w="1647000"/>
                <a:gridCol w="1647000"/>
              </a:tblGrid>
              <a:tr h="8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755640" y="4653000"/>
            <a:ext cx="2232000" cy="1368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1640" y="4653000"/>
            <a:ext cx="2232000" cy="1368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aea38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88000" y="2852640"/>
            <a:ext cx="574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6T15:14:34Z</dcterms:created>
  <dc:creator>Jonty Pearce</dc:creator>
  <dc:description/>
  <dc:language>en-US</dc:language>
  <cp:lastModifiedBy>Jonty Pearce</cp:lastModifiedBy>
  <dcterms:modified xsi:type="dcterms:W3CDTF">2005-03-26T17:04:03Z</dcterms:modified>
  <cp:revision>5</cp:revision>
  <dc:subject/>
  <dc:title>Slide 1</dc:title>
</cp:coreProperties>
</file>