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7051-1833-4F6C-AE7C-4AC40AD29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A788-361F-4E0C-9EA7-E064EB9E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919E-FC6C-4F7E-9D01-15B108603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D668-6493-4D56-B7A8-7C5837F51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EC77-EB23-443C-8741-74B1A6FC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6633-4B06-4DB5-ABAA-3C690D50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5B11-9786-41F0-8D5E-8F6AA1AF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F427-D642-4BFE-A903-92202804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28A6-2077-4143-9E52-A9CDFBBA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8720-6832-49E0-A78A-702D7044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4204-43B3-43D5-8CF7-3F00A5AB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B9EC-BB44-4477-8311-45954C7E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B797-CBD7-41A1-A17D-A70E54967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555920"/>
            <a:ext cx="6192720" cy="7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ffff"/>
                </a:solidFill>
                <a:latin typeface="Arial"/>
              </a:rPr>
              <a:t>PRESENTATION  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1280" y="2204640"/>
            <a:ext cx="56181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3280" y="419040"/>
            <a:ext cx="5616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3280" y="419040"/>
            <a:ext cx="5616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560" y="5876640"/>
            <a:ext cx="910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© 200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our company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15:54:39Z</dcterms:created>
  <dc:creator>Mediac</dc:creator>
  <dc:description/>
  <dc:language>en-US</dc:language>
  <cp:lastModifiedBy>Mediac</cp:lastModifiedBy>
  <dcterms:modified xsi:type="dcterms:W3CDTF">2007-06-01T16:20:21Z</dcterms:modified>
  <cp:revision>4</cp:revision>
  <dc:subject/>
  <dc:title>PRESENTATION  NAME</dc:title>
</cp:coreProperties>
</file>